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E83-D294-4AE4-B6C1-F46E3DEEAAE5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FCE5-7159-4175-8CCF-FC54DA6EA03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A69-630A-49F8-BE2C-0607754766C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8324-93DB-4996-85A4-A907FD15BB7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FFAE-4577-41CE-B1E2-670C69A615D8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D4FA-F5F2-43B5-91D8-61BFE879639E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DAD4-5722-4F93-B6CB-54BA934CD6D5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4FBF-984C-4A6F-8F44-CB6803D461E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17A-4D18-4730-BCDF-45896D4974B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02E4-0E97-4A17-89AB-3BC55309B24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58C-1F23-429D-B9CD-A5EACBB6339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DBA-6462-4339-9A48-F0EC5BE24B3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AB2-46FD-4229-AA42-B7C9B2B7596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B1B-3263-42B3-9829-8D1617A4C3A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50B-1EF2-498C-BA54-71632078876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8ED-5261-4564-9AD7-21F899912AE8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01E-FACC-4565-B2A7-2CA7A363D33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F4D-8221-47D9-8628-2481C786695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99B6-31D7-4654-BCAA-2797E72A3046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E08-866A-414B-9474-1C2D927B5DE3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E249-02F2-40AA-A0B7-6D67AD2747CF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FC7-5166-42F2-9944-9F75DA6F325E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8C8-CCBE-45A5-B3AA-87EF0CF5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D6E-2D48-4B6A-AA2C-DEF1BBB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F2D-9549-42DB-8088-DE931753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E5A-1B89-42A5-8071-4E74A6B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3A9-1AA7-413F-88FE-B930BDD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987-C63C-4CC8-954B-037EB0C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08E-7D05-466A-B726-D824FAC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FD0-9BFE-433C-A94A-DBB7CCE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3A0-0F06-4863-BEE2-A553BE39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9E1-1852-4CAA-9604-74CE1DD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92F-FAC4-4A99-B7B9-8C148FA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3E1-CDC6-462B-B030-62C4D042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CB0-73FC-4011-811E-2CF47DEF3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" name="Picture 14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7543800" y="6257880"/>
            <a:ext cx="143676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Kansasfest2008Logo-transpar" descr=""/>
          <p:cNvPicPr/>
          <p:nvPr/>
        </p:nvPicPr>
        <p:blipFill>
          <a:blip r:embed="rId3"/>
          <a:stretch/>
        </p:blipFill>
        <p:spPr>
          <a:xfrm>
            <a:off x="214200" y="6226200"/>
            <a:ext cx="156204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ah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7636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1152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84488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8004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3152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58" name="AutoShape 12"/>
          <p:cNvCxnSpPr>
            <a:stCxn id="52" idx="0"/>
            <a:endCxn id="59" idx="2"/>
          </p:cNvCxnSpPr>
          <p:nvPr/>
        </p:nvCxnSpPr>
        <p:spPr>
          <a:xfrm flipV="1">
            <a:off x="15238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0" name="AutoShape 13"/>
          <p:cNvCxnSpPr>
            <a:stCxn id="54" idx="0"/>
            <a:endCxn id="61" idx="2"/>
          </p:cNvCxnSpPr>
          <p:nvPr/>
        </p:nvCxnSpPr>
        <p:spPr>
          <a:xfrm flipV="1">
            <a:off x="399240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2" name="AutoShape 14"/>
          <p:cNvCxnSpPr>
            <a:stCxn id="55" idx="0"/>
            <a:endCxn id="63" idx="2"/>
          </p:cNvCxnSpPr>
          <p:nvPr/>
        </p:nvCxnSpPr>
        <p:spPr>
          <a:xfrm flipV="1">
            <a:off x="5225760" y="4711320"/>
            <a:ext cx="216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4" name="AutoShape 17"/>
          <p:cNvCxnSpPr>
            <a:stCxn id="57" idx="0"/>
            <a:endCxn id="65" idx="2"/>
          </p:cNvCxnSpPr>
          <p:nvPr/>
        </p:nvCxnSpPr>
        <p:spPr>
          <a:xfrm flipV="1">
            <a:off x="76960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6" name="AutoShape 20"/>
          <p:cNvCxnSpPr>
            <a:stCxn id="56" idx="0"/>
            <a:endCxn id="67" idx="2"/>
          </p:cNvCxnSpPr>
          <p:nvPr/>
        </p:nvCxnSpPr>
        <p:spPr>
          <a:xfrm flipV="1">
            <a:off x="646092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8" name="AutoShape 21"/>
          <p:cNvCxnSpPr>
            <a:stCxn id="53" idx="0"/>
            <a:endCxn id="69" idx="2"/>
          </p:cNvCxnSpPr>
          <p:nvPr/>
        </p:nvCxnSpPr>
        <p:spPr>
          <a:xfrm flipH="1" flipV="1">
            <a:off x="2751120" y="4711320"/>
            <a:ext cx="648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sp>
        <p:nvSpPr>
          <p:cNvPr id="59" name="Text Box 26"/>
          <p:cNvSpPr/>
          <p:nvPr/>
        </p:nvSpPr>
        <p:spPr>
          <a:xfrm>
            <a:off x="14112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26370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87972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1134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63482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75834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822240" y="4703760"/>
            <a:ext cx="754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7" descr="C:\Documents and Settings\Michael\My Documents\KFest 2007\AppleII-logoBluea.jpg"/>
          <p:cNvPicPr/>
          <p:nvPr/>
        </p:nvPicPr>
        <p:blipFill>
          <a:blip r:embed="rId1"/>
          <a:stretch/>
        </p:blipFill>
        <p:spPr>
          <a:xfrm>
            <a:off x="117936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241452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C:\Documents and Settings\Michael\My Documents\KFest 2007\AppleII-logoBluea.jpg"/>
          <p:cNvPicPr/>
          <p:nvPr/>
        </p:nvPicPr>
        <p:blipFill>
          <a:blip r:embed="rId3"/>
          <a:stretch/>
        </p:blipFill>
        <p:spPr>
          <a:xfrm>
            <a:off x="364968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0" descr="C:\Documents and Settings\Michael\My Documents\KFest 2007\AppleII-logoBluea.jpg"/>
          <p:cNvPicPr/>
          <p:nvPr/>
        </p:nvPicPr>
        <p:blipFill>
          <a:blip r:embed="rId4"/>
          <a:stretch/>
        </p:blipFill>
        <p:spPr>
          <a:xfrm>
            <a:off x="488484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1" descr="C:\Documents and Settings\Michael\My Documents\KFest 2007\AppleII-logoBluea.jpg"/>
          <p:cNvPicPr/>
          <p:nvPr/>
        </p:nvPicPr>
        <p:blipFill>
          <a:blip r:embed="rId5"/>
          <a:stretch/>
        </p:blipFill>
        <p:spPr>
          <a:xfrm>
            <a:off x="611964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2" descr="C:\Documents and Settings\Michael\My Documents\KFest 2007\AppleII-logoBluea.jpg"/>
          <p:cNvPicPr/>
          <p:nvPr/>
        </p:nvPicPr>
        <p:blipFill>
          <a:blip r:embed="rId6"/>
          <a:stretch/>
        </p:blipFill>
        <p:spPr>
          <a:xfrm>
            <a:off x="7354800" y="5267160"/>
            <a:ext cx="7016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s of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quer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ransaction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must still check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elbrot frac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an Applesoft program on all serving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census of serving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ts any machines awaiting bo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takes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Message Server if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serving ‘Crate machine, &amp;POKEs amd &amp;CALLs the BPRUNNER program at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casts the BASIC program using “boot hac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 “check-in” of machines running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PRUN</a:t>
            </a:r>
            <a:br>
              <a:rPr sz="4400"/>
            </a:b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Broadcast Parallel Run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602604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ads and starts all slave machines in parall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oint is completely independ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job” could be anything from a single poin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3,760 poin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hose 280 points, or a line, for each “job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machine queues jobs (in random 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idle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the first job in the job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the computat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queues the result for the master to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Mandelbro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828800" y="57150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esult is an almost linear increase in the speed of execu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andelbrot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371600"/>
            <a:ext cx="8076960" cy="44686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80  REM  Job paramet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90 N = 192 : P = 20 : REM 192 jobs, max of 20 at a tim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00 JN = 0:RN = 0:SCH = 0 : REM Start empt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1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20  REM  Build and maintain job que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30  IF JN &lt; N AND SCH &lt; P THEN  GOSUB 2400: REM  Sched another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40  IF RN &lt; N THEN  GOSUB 2500: REM  Get result of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50  IF RN &lt; N GOTO 223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6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70  PRINT  CHR$ (7)"All jobs completed."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20  END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3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00  REM  Schedule new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10 JN = JN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30  POKE BUF,LM%(JN - 1): REM  Line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40  &amp; PUTMSG (2, JQ, 8, BUF) : REM  Enqueue job in J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60 SCH = SCH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70  RETUR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8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00  REM  Receive and display job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60  &amp; GET MSG# (2, RQ, LL, BUF) : REM Get result from R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70  IF PEEK(1) THEN FOR I = 1 TO 100: NEXT I: RETURN : REM Delay if no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80 SCH = SCH - 1:RN = RN + 1 : REM One less thing to do, one more thing done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90 PY =  PEEK (BUF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0 H =  INT (PY / 8):L1 = PY - H * 8 : REM Compute start of HGR2 line P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4 L3 =  INT (H / 8):L2 = H - L3 * 8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6 LINE = 4 * 4096 + L1 * 1024 + L2 * 128 + L3 * 4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7  FOR I = 0 TO 39: POKE LINE + I, PEEK (BUF + 2 + I): NEXT I : REM Display l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10  RETURN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828800" y="59436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ou can see why it’s called embarrassing parallelism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pure communication”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is associated with a Message Server input 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ues are “primed” with three message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s the first message from the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s” the message by 1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s the message on a random recipient’s que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each message has been passed 50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90920" y="5791320"/>
            <a:ext cx="38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850 messages are sent and received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 Progra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787400"/>
            <a:ext cx="7619760" cy="32810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00  REM  Message passing loop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10  &amp;  GET MSG#(2,IQ,L,BUF): REM  Receive a message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30  IF  NOT  PEEK (1) GOTO 7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40  PRINT  CHR$ (7);: REM  Delay 100 ms. &amp; flash LED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50 K = K + 1: REM 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60  IF K &lt; 50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80  END : REM  If 15 seconds w/o messag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90 :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00  REM  Increment message age and pass it on..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10 K = 0: REM  Reset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0 S =  PEEK (BUF + 1): REM  Message "age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0  IF S = 50 GOTO 600: REM  Max trips--it stops her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0  POKE BUF + 1,S + 1: REM  Inc age by 1 and send it on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0 D =  INT ( RND (1) * NC) + 3: REM  Random destination, 3..NC+2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00  &amp; PUTMSG#(2,Q + D,20,BUF)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20  IF  NOT  PEEK (1)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30  PRINT "PUTMSG err.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40  E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28800" y="556272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communication, no computa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s music file containing voice tables and music streams for each “oscillator”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needed voices and music into each sl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synthesizer into each slave and starts it (waiting for &amp;BPO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all slaves in sync when requ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828800" y="54864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process could benefit substantially from parallel loadi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Sl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s for master’s &amp;BPOKE to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ches commands from music stream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” for T samples (11,025 samples/second)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 note N for T samples in current voic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to voice V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and return to SERVE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5486400"/>
            <a:ext cx="373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y oscillator can play any voice at any tim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Questions and discussion...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K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A Typical Protocol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ata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k/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733920" y="22096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733920" y="26668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 rot="5400000">
            <a:off x="5332680" y="350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733920" y="34894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733920" y="39466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733920" y="31240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3733920" y="441972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162920" y="1905120"/>
            <a:ext cx="129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arly 1990s, I became interested in “clustered” machines:  parallel computers connected by a 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terest naturally turned to Apple II computers, and the possibility of creating an Apple II “blade serve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ucky eBay bid in 2003 netted me 25 Apple //e main boards (14 enhanced) for $39, including shipp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582444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it can be done!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rol Packe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6" name="Group 19"/>
          <p:cNvGrpSpPr/>
          <p:nvPr/>
        </p:nvGrpSpPr>
        <p:grpSpPr>
          <a:xfrm>
            <a:off x="1143000" y="1752480"/>
            <a:ext cx="6858000" cy="685800"/>
            <a:chOff x="1143000" y="1752480"/>
            <a:chExt cx="6858000" cy="685800"/>
          </a:xfrm>
        </p:grpSpPr>
        <p:sp>
          <p:nvSpPr>
            <p:cNvPr id="257" name="Rectangle 3"/>
            <p:cNvSpPr/>
            <p:nvPr/>
          </p:nvSpPr>
          <p:spPr>
            <a:xfrm>
              <a:off x="1143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4"/>
            <p:cNvSpPr/>
            <p:nvPr/>
          </p:nvSpPr>
          <p:spPr>
            <a:xfrm>
              <a:off x="1905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Rectangle 5"/>
            <p:cNvSpPr/>
            <p:nvPr/>
          </p:nvSpPr>
          <p:spPr>
            <a:xfrm>
              <a:off x="2667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429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4191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4953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5715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477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7239240" y="1752480"/>
              <a:ext cx="761760" cy="6858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117504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1941480" y="1914480"/>
              <a:ext cx="685800" cy="398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Modifier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70360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D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346572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o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4552920" y="1960560"/>
              <a:ext cx="80172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6072480" y="1960560"/>
              <a:ext cx="801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7267680" y="196056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ksu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all control packets of a given reques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K, POKE, CAL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if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pecifies the role of the packet within th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, Request Ack, Data Ack, 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target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sending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n address in the targ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 data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ks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n EOR checksum of all bytes in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1337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trol packets are ~1ms lo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Data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6900840" y="1947960"/>
            <a:ext cx="468360" cy="58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7369200" y="1947960"/>
            <a:ext cx="468360" cy="58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1500120" y="1947960"/>
            <a:ext cx="1171800" cy="58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455760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557600" y="2533680"/>
            <a:ext cx="93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549432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49432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596268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5962680" y="253368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V="1">
            <a:off x="643248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643248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690084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736920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783756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783756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7837560" y="25336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27"/>
          <p:cNvSpPr/>
          <p:nvPr/>
        </p:nvSpPr>
        <p:spPr>
          <a:xfrm flipH="1">
            <a:off x="914400" y="2533680"/>
            <a:ext cx="1757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914400" y="253368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1752480" y="206064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Locked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r Idl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547056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468792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16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32100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8" name="Group 52"/>
          <p:cNvGrpSpPr/>
          <p:nvPr/>
        </p:nvGrpSpPr>
        <p:grpSpPr>
          <a:xfrm>
            <a:off x="2057400" y="1863720"/>
            <a:ext cx="101520" cy="152280"/>
            <a:chOff x="2057400" y="1863720"/>
            <a:chExt cx="101520" cy="152280"/>
          </a:xfrm>
        </p:grpSpPr>
        <p:sp>
          <p:nvSpPr>
            <p:cNvPr id="299" name="Freeform 50"/>
            <p:cNvSpPr/>
            <p:nvPr/>
          </p:nvSpPr>
          <p:spPr>
            <a:xfrm>
              <a:off x="205740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Freeform 51"/>
            <p:cNvSpPr/>
            <p:nvPr/>
          </p:nvSpPr>
          <p:spPr>
            <a:xfrm>
              <a:off x="210816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01" name="Group 53"/>
          <p:cNvGrpSpPr/>
          <p:nvPr/>
        </p:nvGrpSpPr>
        <p:grpSpPr>
          <a:xfrm>
            <a:off x="2057400" y="2457360"/>
            <a:ext cx="101520" cy="152640"/>
            <a:chOff x="2057400" y="2457360"/>
            <a:chExt cx="101520" cy="152640"/>
          </a:xfrm>
        </p:grpSpPr>
        <p:sp>
          <p:nvSpPr>
            <p:cNvPr id="302" name="Freeform 54"/>
            <p:cNvSpPr/>
            <p:nvPr/>
          </p:nvSpPr>
          <p:spPr>
            <a:xfrm>
              <a:off x="205740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Freeform 55"/>
            <p:cNvSpPr/>
            <p:nvPr/>
          </p:nvSpPr>
          <p:spPr>
            <a:xfrm>
              <a:off x="210816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4" name="Text Box 56"/>
          <p:cNvSpPr/>
          <p:nvPr/>
        </p:nvSpPr>
        <p:spPr>
          <a:xfrm>
            <a:off x="5896080" y="206064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57"/>
          <p:cNvSpPr/>
          <p:nvPr/>
        </p:nvSpPr>
        <p:spPr>
          <a:xfrm>
            <a:off x="640080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87852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61"/>
          <p:cNvSpPr/>
          <p:nvPr/>
        </p:nvSpPr>
        <p:spPr>
          <a:xfrm>
            <a:off x="734688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Text Box 62"/>
          <p:cNvSpPr/>
          <p:nvPr/>
        </p:nvSpPr>
        <p:spPr>
          <a:xfrm>
            <a:off x="7848720" y="195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Rectangle 63"/>
          <p:cNvSpPr/>
          <p:nvPr/>
        </p:nvSpPr>
        <p:spPr>
          <a:xfrm>
            <a:off x="2416320" y="3736800"/>
            <a:ext cx="468000" cy="58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Rectangle 64"/>
          <p:cNvSpPr/>
          <p:nvPr/>
        </p:nvSpPr>
        <p:spPr>
          <a:xfrm>
            <a:off x="2884320" y="3736800"/>
            <a:ext cx="468360" cy="58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66"/>
          <p:cNvSpPr/>
          <p:nvPr/>
        </p:nvSpPr>
        <p:spPr>
          <a:xfrm>
            <a:off x="19479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67"/>
          <p:cNvSpPr/>
          <p:nvPr/>
        </p:nvSpPr>
        <p:spPr>
          <a:xfrm>
            <a:off x="2416320" y="373680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68"/>
          <p:cNvSpPr/>
          <p:nvPr/>
        </p:nvSpPr>
        <p:spPr>
          <a:xfrm>
            <a:off x="288432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69"/>
          <p:cNvSpPr/>
          <p:nvPr/>
        </p:nvSpPr>
        <p:spPr>
          <a:xfrm>
            <a:off x="33526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70"/>
          <p:cNvSpPr/>
          <p:nvPr/>
        </p:nvSpPr>
        <p:spPr>
          <a:xfrm>
            <a:off x="23940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904760" y="432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73"/>
          <p:cNvSpPr/>
          <p:nvPr/>
        </p:nvSpPr>
        <p:spPr>
          <a:xfrm>
            <a:off x="1905120" y="43228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74"/>
          <p:cNvSpPr/>
          <p:nvPr/>
        </p:nvSpPr>
        <p:spPr>
          <a:xfrm>
            <a:off x="1905120" y="37368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2857680" y="384984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Rectangle 77"/>
          <p:cNvSpPr/>
          <p:nvPr/>
        </p:nvSpPr>
        <p:spPr>
          <a:xfrm>
            <a:off x="5300640" y="3736800"/>
            <a:ext cx="468360" cy="586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Rectangle 78"/>
          <p:cNvSpPr/>
          <p:nvPr/>
        </p:nvSpPr>
        <p:spPr>
          <a:xfrm>
            <a:off x="5769000" y="3736800"/>
            <a:ext cx="468360" cy="586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79"/>
          <p:cNvSpPr/>
          <p:nvPr/>
        </p:nvSpPr>
        <p:spPr>
          <a:xfrm flipV="1">
            <a:off x="48322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80"/>
          <p:cNvSpPr/>
          <p:nvPr/>
        </p:nvSpPr>
        <p:spPr>
          <a:xfrm>
            <a:off x="483228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81"/>
          <p:cNvSpPr/>
          <p:nvPr/>
        </p:nvSpPr>
        <p:spPr>
          <a:xfrm>
            <a:off x="530064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82"/>
          <p:cNvSpPr/>
          <p:nvPr/>
        </p:nvSpPr>
        <p:spPr>
          <a:xfrm>
            <a:off x="576900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83"/>
          <p:cNvSpPr/>
          <p:nvPr/>
        </p:nvSpPr>
        <p:spPr>
          <a:xfrm>
            <a:off x="623736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84"/>
          <p:cNvSpPr/>
          <p:nvPr/>
        </p:nvSpPr>
        <p:spPr>
          <a:xfrm>
            <a:off x="62373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6237360" y="43228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86"/>
          <p:cNvSpPr/>
          <p:nvPr/>
        </p:nvSpPr>
        <p:spPr>
          <a:xfrm>
            <a:off x="3746520" y="384984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2-23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Text Box 87"/>
          <p:cNvSpPr/>
          <p:nvPr/>
        </p:nvSpPr>
        <p:spPr>
          <a:xfrm>
            <a:off x="48006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Text Box 88"/>
          <p:cNvSpPr/>
          <p:nvPr/>
        </p:nvSpPr>
        <p:spPr>
          <a:xfrm>
            <a:off x="527832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Text Box 89"/>
          <p:cNvSpPr/>
          <p:nvPr/>
        </p:nvSpPr>
        <p:spPr>
          <a:xfrm>
            <a:off x="574668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Text Box 90"/>
          <p:cNvSpPr/>
          <p:nvPr/>
        </p:nvSpPr>
        <p:spPr>
          <a:xfrm>
            <a:off x="6248520" y="374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Line 91"/>
          <p:cNvSpPr/>
          <p:nvPr/>
        </p:nvSpPr>
        <p:spPr>
          <a:xfrm>
            <a:off x="2658960" y="194796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92"/>
          <p:cNvSpPr/>
          <p:nvPr/>
        </p:nvSpPr>
        <p:spPr>
          <a:xfrm>
            <a:off x="3316320" y="432288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Text Box 93"/>
          <p:cNvSpPr/>
          <p:nvPr/>
        </p:nvSpPr>
        <p:spPr>
          <a:xfrm>
            <a:off x="1965240" y="3713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Rectangle 94"/>
          <p:cNvSpPr/>
          <p:nvPr/>
        </p:nvSpPr>
        <p:spPr>
          <a:xfrm>
            <a:off x="2416320" y="5208480"/>
            <a:ext cx="468000" cy="58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2884320" y="5208480"/>
            <a:ext cx="468360" cy="58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96"/>
          <p:cNvSpPr/>
          <p:nvPr/>
        </p:nvSpPr>
        <p:spPr>
          <a:xfrm>
            <a:off x="194796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97"/>
          <p:cNvSpPr/>
          <p:nvPr/>
        </p:nvSpPr>
        <p:spPr>
          <a:xfrm>
            <a:off x="2416320" y="520848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98"/>
          <p:cNvSpPr/>
          <p:nvPr/>
        </p:nvSpPr>
        <p:spPr>
          <a:xfrm>
            <a:off x="288432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99"/>
          <p:cNvSpPr/>
          <p:nvPr/>
        </p:nvSpPr>
        <p:spPr>
          <a:xfrm>
            <a:off x="3352680" y="520848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100"/>
          <p:cNvSpPr/>
          <p:nvPr/>
        </p:nvSpPr>
        <p:spPr>
          <a:xfrm>
            <a:off x="2394000" y="532116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101"/>
          <p:cNvSpPr/>
          <p:nvPr/>
        </p:nvSpPr>
        <p:spPr>
          <a:xfrm flipH="1">
            <a:off x="1904760" y="57942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102"/>
          <p:cNvSpPr/>
          <p:nvPr/>
        </p:nvSpPr>
        <p:spPr>
          <a:xfrm>
            <a:off x="1905120" y="57942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103"/>
          <p:cNvSpPr/>
          <p:nvPr/>
        </p:nvSpPr>
        <p:spPr>
          <a:xfrm>
            <a:off x="1905120" y="52084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104"/>
          <p:cNvSpPr/>
          <p:nvPr/>
        </p:nvSpPr>
        <p:spPr>
          <a:xfrm>
            <a:off x="2857680" y="532116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106"/>
          <p:cNvSpPr/>
          <p:nvPr/>
        </p:nvSpPr>
        <p:spPr>
          <a:xfrm>
            <a:off x="3746520" y="5321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(Idle)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108"/>
          <p:cNvSpPr/>
          <p:nvPr/>
        </p:nvSpPr>
        <p:spPr>
          <a:xfrm>
            <a:off x="1965240" y="51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Line 109"/>
          <p:cNvSpPr/>
          <p:nvPr/>
        </p:nvSpPr>
        <p:spPr>
          <a:xfrm>
            <a:off x="3352680" y="5794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111"/>
          <p:cNvSpPr/>
          <p:nvPr/>
        </p:nvSpPr>
        <p:spPr>
          <a:xfrm>
            <a:off x="2870280" y="6080040"/>
            <a:ext cx="95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o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eckby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115"/>
          <p:cNvSpPr/>
          <p:nvPr/>
        </p:nvSpPr>
        <p:spPr>
          <a:xfrm flipV="1">
            <a:off x="3352680" y="587016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116"/>
          <p:cNvSpPr/>
          <p:nvPr/>
        </p:nvSpPr>
        <p:spPr>
          <a:xfrm>
            <a:off x="685800" y="478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cket end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117"/>
          <p:cNvSpPr/>
          <p:nvPr/>
        </p:nvSpPr>
        <p:spPr>
          <a:xfrm>
            <a:off x="685800" y="33242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nterbyte separator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118"/>
          <p:cNvSpPr/>
          <p:nvPr/>
        </p:nvSpPr>
        <p:spPr>
          <a:xfrm>
            <a:off x="685800" y="15638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tart of packet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119"/>
          <p:cNvSpPr/>
          <p:nvPr/>
        </p:nvSpPr>
        <p:spPr>
          <a:xfrm>
            <a:off x="4475160" y="459252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120"/>
          <p:cNvSpPr/>
          <p:nvPr/>
        </p:nvSpPr>
        <p:spPr>
          <a:xfrm flipV="1">
            <a:off x="4840200" y="4398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 Box 121"/>
          <p:cNvSpPr/>
          <p:nvPr/>
        </p:nvSpPr>
        <p:spPr>
          <a:xfrm>
            <a:off x="6066000" y="2803680"/>
            <a:ext cx="72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122"/>
          <p:cNvSpPr/>
          <p:nvPr/>
        </p:nvSpPr>
        <p:spPr>
          <a:xfrm flipV="1">
            <a:off x="6432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 Box 123"/>
          <p:cNvSpPr/>
          <p:nvPr/>
        </p:nvSpPr>
        <p:spPr>
          <a:xfrm>
            <a:off x="4965840" y="2803680"/>
            <a:ext cx="104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rse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124"/>
          <p:cNvSpPr/>
          <p:nvPr/>
        </p:nvSpPr>
        <p:spPr>
          <a:xfrm flipV="1">
            <a:off x="548964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Text Box 125"/>
          <p:cNvSpPr/>
          <p:nvPr/>
        </p:nvSpPr>
        <p:spPr>
          <a:xfrm>
            <a:off x="4102200" y="280368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rt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126"/>
          <p:cNvSpPr/>
          <p:nvPr/>
        </p:nvSpPr>
        <p:spPr>
          <a:xfrm flipV="1">
            <a:off x="4551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64" name="AutoShape 127"/>
          <p:cNvCxnSpPr/>
          <p:nvPr/>
        </p:nvCxnSpPr>
        <p:spPr>
          <a:xfrm>
            <a:off x="2690640" y="1755360"/>
            <a:ext cx="419184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5" name="AutoShape 128"/>
          <p:cNvCxnSpPr/>
          <p:nvPr/>
        </p:nvCxnSpPr>
        <p:spPr>
          <a:xfrm>
            <a:off x="3352680" y="3541320"/>
            <a:ext cx="198216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Text Box 129"/>
          <p:cNvSpPr/>
          <p:nvPr/>
        </p:nvSpPr>
        <p:spPr>
          <a:xfrm>
            <a:off x="3946680" y="3325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30-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130"/>
          <p:cNvSpPr/>
          <p:nvPr/>
        </p:nvSpPr>
        <p:spPr>
          <a:xfrm>
            <a:off x="4343400" y="153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7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Arbitr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isten before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for net to be idle for 1 millisecond + ID * 22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ID machines have higher arbitration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net by forcing HIG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1-cycle sample-to-seize window for idle net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s “locked” until it is idle for longer than 1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quests satisfy this requirement and so are atom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14440" y="2133720"/>
            <a:ext cx="4876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8-machine Apple //e cluster, all unenhanced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s modified for NadaNet boot (from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ed by PC power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for a desktop, but quite fragile for tra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C:\Apple II Development\NadaNet\Web\Image6.jpg"/>
          <p:cNvPicPr/>
          <p:nvPr/>
        </p:nvPicPr>
        <p:blipFill>
          <a:blip r:embed="rId1"/>
          <a:stretch/>
        </p:blipFill>
        <p:spPr>
          <a:xfrm>
            <a:off x="533520" y="2057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 II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25 main boards, 14 were Enhanced //e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512 bytes of self-test space in ROM required a new “passive” network boot protoc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a ‘Crate that was mechanically robust and compact enough to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to scale it up to 16 machines, and incorporate a “master” for conven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better quality sound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05120" y="5764320"/>
            <a:ext cx="5486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achine to sup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llel programming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n Apple II’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Enhanced //e bo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“master” and 16 “slav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contain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can be attached to the top board, so it is the “mast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boards stacked horizontally using standoffs for rig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ower ~70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4.2 Watts per bo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-channel 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al mixer / filter / amp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ID daisy chain causes IDs      to be assigned top-to-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1430575cps" descr=""/>
          <p:cNvPicPr/>
          <p:nvPr/>
        </p:nvPicPr>
        <p:blipFill>
          <a:blip r:embed="rId1"/>
          <a:stretch/>
        </p:blipFill>
        <p:spPr>
          <a:xfrm>
            <a:off x="592200" y="1676520"/>
            <a:ext cx="3522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Programming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damental problem is maximizing the degree of concurrent computation to minimiz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me to compl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hieve that it is necessary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om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ogram into part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sufficient computation so that communication cost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communication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leave a few large/long sequential tasks whose computation will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ipeline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“phases” or “stages”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pproximately the same time to compl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essentially independently on many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the times required by each stage independent of the data can be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ipeline runs at the speed of the slowest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blem in any stage is a problem for the whole pipe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28800" y="602604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an assembly lin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0" y="5257800"/>
            <a:ext cx="4800600" cy="228600"/>
            <a:chOff x="2286000" y="5257800"/>
            <a:chExt cx="4800600" cy="228600"/>
          </a:xfrm>
        </p:grpSpPr>
        <p:grpSp>
          <p:nvGrpSpPr>
            <p:cNvPr id="95" name=""/>
            <p:cNvGrpSpPr/>
            <p:nvPr/>
          </p:nvGrpSpPr>
          <p:grpSpPr>
            <a:xfrm>
              <a:off x="2286000" y="5257800"/>
              <a:ext cx="609480" cy="228600"/>
              <a:chOff x="2286000" y="5257800"/>
              <a:chExt cx="609480" cy="228600"/>
            </a:xfrm>
          </p:grpSpPr>
          <p:sp>
            <p:nvSpPr>
              <p:cNvPr id="96" name=""/>
              <p:cNvSpPr/>
              <p:nvPr/>
            </p:nvSpPr>
            <p:spPr>
              <a:xfrm>
                <a:off x="228600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97" name=""/>
              <p:cNvCxnSpPr>
                <a:stCxn id="96" idx="6"/>
              </p:cNvCxnSpPr>
              <p:nvPr/>
            </p:nvCxnSpPr>
            <p:spPr>
              <a:xfrm>
                <a:off x="252684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"/>
            <p:cNvGrpSpPr/>
            <p:nvPr/>
          </p:nvGrpSpPr>
          <p:grpSpPr>
            <a:xfrm>
              <a:off x="2886120" y="5257800"/>
              <a:ext cx="609480" cy="228600"/>
              <a:chOff x="2886120" y="5257800"/>
              <a:chExt cx="609480" cy="228600"/>
            </a:xfrm>
          </p:grpSpPr>
          <p:sp>
            <p:nvSpPr>
              <p:cNvPr id="99" name=""/>
              <p:cNvSpPr/>
              <p:nvPr/>
            </p:nvSpPr>
            <p:spPr>
              <a:xfrm>
                <a:off x="2886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0" name=""/>
              <p:cNvCxnSpPr>
                <a:stCxn id="99" idx="6"/>
              </p:cNvCxnSpPr>
              <p:nvPr/>
            </p:nvCxnSpPr>
            <p:spPr>
              <a:xfrm>
                <a:off x="3126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"/>
            <p:cNvGrpSpPr/>
            <p:nvPr/>
          </p:nvGrpSpPr>
          <p:grpSpPr>
            <a:xfrm>
              <a:off x="4083120" y="5257800"/>
              <a:ext cx="609480" cy="228600"/>
              <a:chOff x="4083120" y="5257800"/>
              <a:chExt cx="609480" cy="228600"/>
            </a:xfrm>
          </p:grpSpPr>
          <p:sp>
            <p:nvSpPr>
              <p:cNvPr id="102" name=""/>
              <p:cNvSpPr/>
              <p:nvPr/>
            </p:nvSpPr>
            <p:spPr>
              <a:xfrm>
                <a:off x="4083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3" name=""/>
              <p:cNvCxnSpPr>
                <a:stCxn id="102" idx="6"/>
              </p:cNvCxnSpPr>
              <p:nvPr/>
            </p:nvCxnSpPr>
            <p:spPr>
              <a:xfrm>
                <a:off x="4323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"/>
            <p:cNvGrpSpPr/>
            <p:nvPr/>
          </p:nvGrpSpPr>
          <p:grpSpPr>
            <a:xfrm>
              <a:off x="5280120" y="5257800"/>
              <a:ext cx="609480" cy="228600"/>
              <a:chOff x="5280120" y="5257800"/>
              <a:chExt cx="60948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80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6"/>
              </p:cNvCxnSpPr>
              <p:nvPr/>
            </p:nvCxnSpPr>
            <p:spPr>
              <a:xfrm>
                <a:off x="5520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"/>
            <p:cNvGrpSpPr/>
            <p:nvPr/>
          </p:nvGrpSpPr>
          <p:grpSpPr>
            <a:xfrm>
              <a:off x="6477120" y="5257800"/>
              <a:ext cx="609480" cy="228600"/>
              <a:chOff x="6477120" y="5257800"/>
              <a:chExt cx="60948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6477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8" idx="6"/>
              </p:cNvCxnSpPr>
              <p:nvPr/>
            </p:nvCxnSpPr>
            <p:spPr>
              <a:xfrm>
                <a:off x="6717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"/>
            <p:cNvGrpSpPr/>
            <p:nvPr/>
          </p:nvGrpSpPr>
          <p:grpSpPr>
            <a:xfrm>
              <a:off x="3484440" y="5257800"/>
              <a:ext cx="609480" cy="228600"/>
              <a:chOff x="3484440" y="5257800"/>
              <a:chExt cx="609480" cy="228600"/>
            </a:xfrm>
          </p:grpSpPr>
          <p:sp>
            <p:nvSpPr>
              <p:cNvPr id="111" name=""/>
              <p:cNvSpPr/>
              <p:nvPr/>
            </p:nvSpPr>
            <p:spPr>
              <a:xfrm>
                <a:off x="3484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2" name=""/>
              <p:cNvCxnSpPr>
                <a:stCxn id="111" idx="6"/>
              </p:cNvCxnSpPr>
              <p:nvPr/>
            </p:nvCxnSpPr>
            <p:spPr>
              <a:xfrm>
                <a:off x="3725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"/>
            <p:cNvGrpSpPr/>
            <p:nvPr/>
          </p:nvGrpSpPr>
          <p:grpSpPr>
            <a:xfrm>
              <a:off x="4681440" y="5257800"/>
              <a:ext cx="609480" cy="228600"/>
              <a:chOff x="4681440" y="5257800"/>
              <a:chExt cx="609480" cy="228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681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5" name=""/>
              <p:cNvCxnSpPr>
                <a:stCxn id="114" idx="6"/>
              </p:cNvCxnSpPr>
              <p:nvPr/>
            </p:nvCxnSpPr>
            <p:spPr>
              <a:xfrm>
                <a:off x="4922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6" name=""/>
            <p:cNvGrpSpPr/>
            <p:nvPr/>
          </p:nvGrpSpPr>
          <p:grpSpPr>
            <a:xfrm>
              <a:off x="5878440" y="5257800"/>
              <a:ext cx="609480" cy="228600"/>
              <a:chOff x="5878440" y="5257800"/>
              <a:chExt cx="609480" cy="228600"/>
            </a:xfrm>
          </p:grpSpPr>
          <p:sp>
            <p:nvSpPr>
              <p:cNvPr id="117" name=""/>
              <p:cNvSpPr/>
              <p:nvPr/>
            </p:nvSpPr>
            <p:spPr>
              <a:xfrm>
                <a:off x="5878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7" idx="6"/>
              </p:cNvCxnSpPr>
              <p:nvPr/>
            </p:nvCxnSpPr>
            <p:spPr>
              <a:xfrm>
                <a:off x="6119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rocess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separate process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ake any amount of time or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independently on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particular data set may have a unique path through the network of proc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ts (“jobs”) queue for each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processing resources to minimize queueing can be very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95280" y="6029280"/>
            <a:ext cx="678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scheduling a machine shop floor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440" y="4876920"/>
            <a:ext cx="5702760" cy="861480"/>
            <a:chOff x="1828440" y="4876920"/>
            <a:chExt cx="5702760" cy="861480"/>
          </a:xfrm>
        </p:grpSpPr>
        <p:cxnSp>
          <p:nvCxnSpPr>
            <p:cNvPr id="123" name=""/>
            <p:cNvCxnSpPr/>
            <p:nvPr/>
          </p:nvCxnSpPr>
          <p:spPr>
            <a:xfrm>
              <a:off x="1828440" y="5395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2502000" y="52815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4" idx="6"/>
            </p:cNvCxnSpPr>
            <p:nvPr/>
          </p:nvCxnSpPr>
          <p:spPr>
            <a:xfrm flipV="1">
              <a:off x="2742840" y="5052600"/>
              <a:ext cx="2926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2178000" y="52815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2920" y="528156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55101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2892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701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493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61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2" idx="6"/>
            </p:cNvCxnSpPr>
            <p:nvPr/>
          </p:nvCxnSpPr>
          <p:spPr>
            <a:xfrm flipV="1">
              <a:off x="3627360" y="5585400"/>
              <a:ext cx="2075760" cy="385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34" name=""/>
            <p:cNvGrpSpPr/>
            <p:nvPr/>
          </p:nvGrpSpPr>
          <p:grpSpPr>
            <a:xfrm>
              <a:off x="3062160" y="5510160"/>
              <a:ext cx="304920" cy="228240"/>
              <a:chOff x="3062160" y="5510160"/>
              <a:chExt cx="304920" cy="228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062160" y="5510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670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62160" y="573840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30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543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70320" y="51814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41" idx="6"/>
            </p:cNvCxnSpPr>
            <p:nvPr/>
          </p:nvCxnSpPr>
          <p:spPr>
            <a:xfrm>
              <a:off x="4511520" y="5295960"/>
              <a:ext cx="2029680" cy="1144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3946680" y="5181480"/>
              <a:ext cx="304560" cy="228240"/>
              <a:chOff x="3946680" y="5181480"/>
              <a:chExt cx="30456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3946680" y="518148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51240" y="518148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46680" y="54097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972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848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80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13072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50" idx="6"/>
            </p:cNvCxnSpPr>
            <p:nvPr/>
          </p:nvCxnSpPr>
          <p:spPr>
            <a:xfrm>
              <a:off x="5371920" y="4990680"/>
              <a:ext cx="12214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52" name=""/>
            <p:cNvGrpSpPr/>
            <p:nvPr/>
          </p:nvGrpSpPr>
          <p:grpSpPr>
            <a:xfrm>
              <a:off x="4807080" y="4876920"/>
              <a:ext cx="304560" cy="228240"/>
              <a:chOff x="4807080" y="4876920"/>
              <a:chExt cx="304560" cy="228240"/>
            </a:xfrm>
          </p:grpSpPr>
          <p:sp>
            <p:nvSpPr>
              <p:cNvPr id="153" name=""/>
              <p:cNvSpPr/>
              <p:nvPr/>
            </p:nvSpPr>
            <p:spPr>
              <a:xfrm>
                <a:off x="4807080" y="48769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1164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07080" y="5105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576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98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784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597720" y="5297400"/>
              <a:ext cx="933480" cy="228240"/>
              <a:chOff x="6597720" y="5297400"/>
              <a:chExt cx="933480" cy="2282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921720" y="5297400"/>
                <a:ext cx="609480" cy="228240"/>
                <a:chOff x="6921720" y="5297400"/>
                <a:chExt cx="609480" cy="228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921720" y="5297400"/>
                  <a:ext cx="228600" cy="2282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cxnSp>
              <p:nvCxnSpPr>
                <p:cNvPr id="162" name=""/>
                <p:cNvCxnSpPr>
                  <a:stCxn id="161" idx="6"/>
                </p:cNvCxnSpPr>
                <p:nvPr/>
              </p:nvCxnSpPr>
              <p:spPr>
                <a:xfrm>
                  <a:off x="7162560" y="5410800"/>
                  <a:ext cx="36900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63" name=""/>
              <p:cNvGrpSpPr/>
              <p:nvPr/>
            </p:nvGrpSpPr>
            <p:grpSpPr>
              <a:xfrm>
                <a:off x="6597720" y="5297400"/>
                <a:ext cx="304920" cy="228240"/>
                <a:chOff x="6597720" y="5297400"/>
                <a:chExt cx="304920" cy="228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597720" y="529740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02640" y="5297400"/>
                  <a:ext cx="0" cy="2282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97720" y="552564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486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8988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4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60069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71" name=""/>
            <p:cNvCxnSpPr>
              <a:stCxn id="170" idx="6"/>
            </p:cNvCxnSpPr>
            <p:nvPr/>
          </p:nvCxnSpPr>
          <p:spPr>
            <a:xfrm flipV="1">
              <a:off x="6248160" y="5433480"/>
              <a:ext cx="36900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72" name=""/>
            <p:cNvGrpSpPr/>
            <p:nvPr/>
          </p:nvGrpSpPr>
          <p:grpSpPr>
            <a:xfrm>
              <a:off x="5683320" y="5510160"/>
              <a:ext cx="304560" cy="228240"/>
              <a:chOff x="5683320" y="5510160"/>
              <a:chExt cx="304560" cy="22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683320" y="5510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878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83320" y="573840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751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46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38616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6"/>
            </p:cNvCxnSpPr>
            <p:nvPr/>
          </p:nvCxnSpPr>
          <p:spPr>
            <a:xfrm flipV="1">
              <a:off x="3627360" y="4975920"/>
              <a:ext cx="1161360" cy="14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3062160" y="4876920"/>
              <a:ext cx="304920" cy="228240"/>
              <a:chOff x="3062160" y="4876920"/>
              <a:chExt cx="304920" cy="228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062160" y="487692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6708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62160" y="5105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130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5432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33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cxnSp>
          <p:nvCxnSpPr>
            <p:cNvPr id="188" name=""/>
            <p:cNvCxnSpPr>
              <a:stCxn id="124" idx="6"/>
            </p:cNvCxnSpPr>
            <p:nvPr/>
          </p:nvCxnSpPr>
          <p:spPr>
            <a:xfrm>
              <a:off x="2742840" y="5395680"/>
              <a:ext cx="29268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79" idx="6"/>
            </p:cNvCxnSpPr>
            <p:nvPr/>
          </p:nvCxnSpPr>
          <p:spPr>
            <a:xfrm>
              <a:off x="3627000" y="4991040"/>
              <a:ext cx="32292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32" idx="6"/>
            </p:cNvCxnSpPr>
            <p:nvPr/>
          </p:nvCxnSpPr>
          <p:spPr>
            <a:xfrm flipV="1">
              <a:off x="3627000" y="5333400"/>
              <a:ext cx="25956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41" idx="6"/>
            </p:cNvCxnSpPr>
            <p:nvPr/>
          </p:nvCxnSpPr>
          <p:spPr>
            <a:xfrm flipV="1">
              <a:off x="4511160" y="5028840"/>
              <a:ext cx="289440" cy="267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roblems naturally “fall apart” into many nearly identical independent piec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fine-grained that none dominates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easily aggregated to balance computation with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blems are “made to order” for parallel computation, since decomposition is triv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828800" y="609588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ten so easy it’s known as “embarrassing parallelism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3720" y="4648320"/>
            <a:ext cx="2406960" cy="1218600"/>
            <a:chOff x="3123720" y="4648320"/>
            <a:chExt cx="2406960" cy="1218600"/>
          </a:xfrm>
        </p:grpSpPr>
        <p:sp>
          <p:nvSpPr>
            <p:cNvPr id="196" name=""/>
            <p:cNvSpPr/>
            <p:nvPr/>
          </p:nvSpPr>
          <p:spPr>
            <a:xfrm>
              <a:off x="4538520" y="46483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6"/>
            </p:cNvCxnSpPr>
            <p:nvPr/>
          </p:nvCxnSpPr>
          <p:spPr>
            <a:xfrm>
              <a:off x="4779360" y="4762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538520" y="49780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</p:cNvCxnSpPr>
            <p:nvPr/>
          </p:nvCxnSpPr>
          <p:spPr>
            <a:xfrm>
              <a:off x="4779360" y="50922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538520" y="56386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200" idx="6"/>
            </p:cNvCxnSpPr>
            <p:nvPr/>
          </p:nvCxnSpPr>
          <p:spPr>
            <a:xfrm>
              <a:off x="4779360" y="575244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38520" y="530820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202" idx="6"/>
            </p:cNvCxnSpPr>
            <p:nvPr/>
          </p:nvCxnSpPr>
          <p:spPr>
            <a:xfrm>
              <a:off x="4779360" y="5422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>
              <a:off x="4166640" y="47602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>
              <a:off x="4166640" y="50904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>
              <a:off x="4166640" y="57510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>
              <a:off x="4166640" y="54208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>
              <a:off x="4166640" y="475560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09" name=""/>
            <p:cNvCxnSpPr/>
            <p:nvPr/>
          </p:nvCxnSpPr>
          <p:spPr>
            <a:xfrm>
              <a:off x="5157360" y="47714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10" name=""/>
            <p:cNvCxnSpPr/>
            <p:nvPr/>
          </p:nvCxnSpPr>
          <p:spPr>
            <a:xfrm>
              <a:off x="516204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>
              <a:off x="312372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3481200" y="51494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6120" y="514944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1200" y="53780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733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25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18" name=""/>
            <p:cNvCxnSpPr/>
            <p:nvPr/>
          </p:nvCxnSpPr>
          <p:spPr>
            <a:xfrm>
              <a:off x="379836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29:42Z</dcterms:created>
  <dc:creator>Michael J. Mahon</dc:creator>
  <dc:description/>
  <dc:language>en-US</dc:language>
  <cp:lastModifiedBy>Michael J. Mahon</cp:lastModifiedBy>
  <cp:lastPrinted>2007-06-24T23:20:53Z</cp:lastPrinted>
  <dcterms:modified xsi:type="dcterms:W3CDTF">2008-07-20T18:43:35Z</dcterms:modified>
  <cp:revision>40</cp:revision>
  <dc:subject/>
  <dc:title>NadaNet Networking for Apple II’s</dc:title>
</cp:coreProperties>
</file>