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08240" y="-36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9118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08240" y="8911800"/>
            <a:ext cx="30668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412B-1813-41B3-8DAF-6A6574D179CB}" type="slidenum">
              <a:rPr b="0" lang="en-US" sz="12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7473-0ECC-4A10-B4EC-9859436E4979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ACB8-9850-407E-BED6-AFBF6D346EEC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868F-8197-416A-ABEB-4B2F7FDB31F6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1509-4608-4E0C-A8CA-2C798681F697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6F52-367B-43FB-9DE0-DF54D46C1D7B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FE54-14FF-4EBC-B11C-91AA1BA1D00F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C729-90BD-4B4A-975F-655F9B3EAC6C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10F9-549A-4F47-AF2C-A55A7CD64CB5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2DA0-ADA9-4F89-83EC-C3C0DE9FDCB7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490D-091C-4E28-95FE-FEEF7CADD1B2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1B52-60CB-4926-8391-1B71DE181144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5DA0-3659-41C3-9AD5-62377B2CEBBB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DF98-2DF0-48C4-8701-899B285A27C0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8494-8134-4040-B39D-3567FDE87548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1DFC-51C9-46BB-BC81-23D8F3A42A37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13B8-9923-47FC-8FD7-0699A4DF2C20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8BBE-4548-4B9B-B3DF-B575A213E3FE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88EF-09F0-474B-9FF0-EB16BE18BE61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28A5-8DE7-4905-AA0C-BDD6F7DFF045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CC63-4E3C-47C1-AB24-93925F25160D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7760" y="4457520"/>
            <a:ext cx="56610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4008600" y="8912160"/>
            <a:ext cx="3066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5942-8C23-4FFD-A61C-CFB8A3C2F521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D2A-1A78-4F7E-A766-4314ED8B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573-15CA-46E9-9C04-45A6F0B4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935-63F8-4E4E-88B8-B61A3060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C083-1950-4252-8BBC-FE4FF324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DD7C-6F11-4986-84F2-B16A750C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167-9124-480A-BF39-D89B8A05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853-DCB9-4467-8C72-DB6C68C7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450-EB8D-4F62-A8A8-60AC85C2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99E-7A92-4698-A2D7-4B177748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A61-BCBD-4329-87CD-25A1F7CF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D09-A33C-4829-B032-161A7EEF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E01-28AE-41A2-AEDF-B6E9ADB2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F1BB-A03B-4183-9AD0-9EA34FD30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5" name="Picture 14" descr="C:\Documents and Settings\Michael\My Documents\KFest 2007\AppleII-logoBluea.jpg"/>
          <p:cNvPicPr/>
          <p:nvPr/>
        </p:nvPicPr>
        <p:blipFill>
          <a:blip r:embed="rId2"/>
          <a:stretch/>
        </p:blipFill>
        <p:spPr>
          <a:xfrm>
            <a:off x="7543800" y="6257880"/>
            <a:ext cx="1436760" cy="447840"/>
          </a:xfrm>
          <a:prstGeom prst="rect">
            <a:avLst/>
          </a:prstGeom>
          <a:ln w="0">
            <a:noFill/>
          </a:ln>
        </p:spPr>
      </p:pic>
      <p:pic>
        <p:nvPicPr>
          <p:cNvPr id="6" name="Kansasfest2008Logo-transpar" descr=""/>
          <p:cNvPicPr/>
          <p:nvPr/>
        </p:nvPicPr>
        <p:blipFill>
          <a:blip r:embed="rId3"/>
          <a:stretch/>
        </p:blipFill>
        <p:spPr>
          <a:xfrm>
            <a:off x="214200" y="6226200"/>
            <a:ext cx="156204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ppleCrate II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hael Mah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14300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37636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61152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84488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8004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7315200" y="5108400"/>
            <a:ext cx="762120" cy="533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58" name="AutoShape 12"/>
          <p:cNvCxnSpPr>
            <a:stCxn id="52" idx="0"/>
            <a:endCxn id="59" idx="2"/>
          </p:cNvCxnSpPr>
          <p:nvPr/>
        </p:nvCxnSpPr>
        <p:spPr>
          <a:xfrm flipV="1">
            <a:off x="152388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0" name="AutoShape 13"/>
          <p:cNvCxnSpPr>
            <a:stCxn id="54" idx="0"/>
            <a:endCxn id="61" idx="2"/>
          </p:cNvCxnSpPr>
          <p:nvPr/>
        </p:nvCxnSpPr>
        <p:spPr>
          <a:xfrm flipV="1">
            <a:off x="399240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2" name="AutoShape 14"/>
          <p:cNvCxnSpPr>
            <a:stCxn id="55" idx="0"/>
            <a:endCxn id="63" idx="2"/>
          </p:cNvCxnSpPr>
          <p:nvPr/>
        </p:nvCxnSpPr>
        <p:spPr>
          <a:xfrm flipV="1">
            <a:off x="5225760" y="4711320"/>
            <a:ext cx="216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4" name="AutoShape 17"/>
          <p:cNvCxnSpPr>
            <a:stCxn id="57" idx="0"/>
            <a:endCxn id="65" idx="2"/>
          </p:cNvCxnSpPr>
          <p:nvPr/>
        </p:nvCxnSpPr>
        <p:spPr>
          <a:xfrm flipV="1">
            <a:off x="769608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6" name="AutoShape 20"/>
          <p:cNvCxnSpPr>
            <a:stCxn id="56" idx="0"/>
            <a:endCxn id="67" idx="2"/>
          </p:cNvCxnSpPr>
          <p:nvPr/>
        </p:nvCxnSpPr>
        <p:spPr>
          <a:xfrm flipV="1">
            <a:off x="6460920" y="4711320"/>
            <a:ext cx="180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cxnSp>
        <p:nvCxnSpPr>
          <p:cNvPr id="68" name="AutoShape 21"/>
          <p:cNvCxnSpPr>
            <a:stCxn id="53" idx="0"/>
            <a:endCxn id="69" idx="2"/>
          </p:cNvCxnSpPr>
          <p:nvPr/>
        </p:nvCxnSpPr>
        <p:spPr>
          <a:xfrm flipH="1" flipV="1">
            <a:off x="2751120" y="4711320"/>
            <a:ext cx="6480" cy="397440"/>
          </a:xfrm>
          <a:prstGeom prst="straightConnector1">
            <a:avLst/>
          </a:prstGeom>
          <a:ln w="25560">
            <a:solidFill>
              <a:srgbClr val="ffff00"/>
            </a:solidFill>
            <a:miter/>
          </a:ln>
        </p:spPr>
      </p:cxnSp>
      <p:sp>
        <p:nvSpPr>
          <p:cNvPr id="59" name="Text Box 26"/>
          <p:cNvSpPr/>
          <p:nvPr/>
        </p:nvSpPr>
        <p:spPr>
          <a:xfrm>
            <a:off x="14112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26370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387972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511344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634824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7583400" y="44956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822240" y="4703760"/>
            <a:ext cx="754380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7" descr="C:\Documents and Settings\Michael\My Documents\KFest 2007\AppleII-logoBluea.jpg"/>
          <p:cNvPicPr/>
          <p:nvPr/>
        </p:nvPicPr>
        <p:blipFill>
          <a:blip r:embed="rId1"/>
          <a:stretch/>
        </p:blipFill>
        <p:spPr>
          <a:xfrm>
            <a:off x="1179360" y="5267160"/>
            <a:ext cx="702000" cy="21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C:\Documents and Settings\Michael\My Documents\KFest 2007\AppleII-logoBluea.jpg"/>
          <p:cNvPicPr/>
          <p:nvPr/>
        </p:nvPicPr>
        <p:blipFill>
          <a:blip r:embed="rId2"/>
          <a:stretch/>
        </p:blipFill>
        <p:spPr>
          <a:xfrm>
            <a:off x="241452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9" descr="C:\Documents and Settings\Michael\My Documents\KFest 2007\AppleII-logoBluea.jpg"/>
          <p:cNvPicPr/>
          <p:nvPr/>
        </p:nvPicPr>
        <p:blipFill>
          <a:blip r:embed="rId3"/>
          <a:stretch/>
        </p:blipFill>
        <p:spPr>
          <a:xfrm>
            <a:off x="364968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0" descr="C:\Documents and Settings\Michael\My Documents\KFest 2007\AppleII-logoBluea.jpg"/>
          <p:cNvPicPr/>
          <p:nvPr/>
        </p:nvPicPr>
        <p:blipFill>
          <a:blip r:embed="rId4"/>
          <a:stretch/>
        </p:blipFill>
        <p:spPr>
          <a:xfrm>
            <a:off x="4884840" y="5267160"/>
            <a:ext cx="701640" cy="21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1" descr="C:\Documents and Settings\Michael\My Documents\KFest 2007\AppleII-logoBluea.jpg"/>
          <p:cNvPicPr/>
          <p:nvPr/>
        </p:nvPicPr>
        <p:blipFill>
          <a:blip r:embed="rId5"/>
          <a:stretch/>
        </p:blipFill>
        <p:spPr>
          <a:xfrm>
            <a:off x="6119640" y="5267160"/>
            <a:ext cx="702000" cy="219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2" descr="C:\Documents and Settings\Michael\My Documents\KFest 2007\AppleII-logoBluea.jpg"/>
          <p:cNvPicPr/>
          <p:nvPr/>
        </p:nvPicPr>
        <p:blipFill>
          <a:blip r:embed="rId6"/>
          <a:stretch/>
        </p:blipFill>
        <p:spPr>
          <a:xfrm>
            <a:off x="7354800" y="5267160"/>
            <a:ext cx="701640" cy="2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Examples of</a:t>
            </a: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ata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e Carlo sim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base quer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transaction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must still check for indepen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delbrot frac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s an Applesoft program on all serving mach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s standard AppleCrate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census of serving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ots any machines awaiting bo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-takes cens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s Message Server if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serving ‘Crate machine, &amp;POKEs amd &amp;CALLs the BPRUNNER program at $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casts the BASIC program using “boot hac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s “check-in” of machines running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PRUN</a:t>
            </a:r>
            <a:br>
              <a:rPr sz="4400"/>
            </a:b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Broadcast Parallel Run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905120" y="602604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oads and starts all slave machines in parallel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point is completely independ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“job” could be anything from a single point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3,760 point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chose 280 points, or a line, for each “job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ster machine queues jobs (in random ord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idle slave mach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the first job in the job que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es the computation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queues the result for the master to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arallel Mandelbro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828800" y="571500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esult is an almost linear increase in the speed of executio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Mandelbrot Master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828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1371600"/>
            <a:ext cx="8076960" cy="446868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180  REM  Job paramet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190 N = 192 : P = 20 : REM 192 jobs, max of 20 at a tim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00 JN = 0:RN = 0:SCH = 0 : REM Start empt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1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20  REM  Build and maintain job queu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30  IF JN &lt; N AND SCH &lt; P THEN  GOSUB 2400: REM  Sched another job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40  IF RN &lt; N THEN  GOSUB 2500: REM  Get result of job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2250  IF RN &lt; N GOTO 223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6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270  PRINT  CHR$ (7)"All jobs completed."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320  END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33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00  REM  Schedule new job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10 JN = JN + 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30  POKE BUF,LM%(JN - 1): REM  Line numb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40  &amp; PUTMSG (2, JQ, 8, BUF) : REM  Enqueue job in JQ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60 SCH = SCH + 1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70  RETURN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480 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00  REM  Receive and display job resul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60  &amp; GET MSG# (2, RQ, LL, BUF) : REM Get result from RQ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70  IF PEEK(1) THEN FOR I = 1 TO 100: NEXT I: RETURN : REM Delay if no resul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80 SCH = SCH - 1:RN = RN + 1 : REM One less thing to do, one more thing done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590 PY =  PEEK (BUF)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0 H =  INT (PY / 8):L1 = PY - H * 8 : REM Compute start of HGR2 line P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4 L3 =  INT (H / 8):L2 = H - L3 * 8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6 LINE = 4 * 4096 + L1 * 1024 + L2 * 128 + L3 * 40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07  FOR I = 0 TO 39: POKE LINE + I, PEEK (BUF + 2 + I): NEXT I : REM Display lin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ff00"/>
                </a:solidFill>
                <a:latin typeface="Courier New"/>
              </a:rPr>
              <a:t>2610  RETURN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828800" y="594360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You can see why it’s called embarrassing parallelism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“pure communication”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lave is associated with a Message Server input 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ues are “primed” with three messages 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lave mach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s the first message from the que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s” the message by 1,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ts the message on a random recipient’s que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each message has been passed 50 ti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atRace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2590920" y="5791320"/>
            <a:ext cx="3886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850 messages are sent and received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RatRace Progra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8288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1787400"/>
            <a:ext cx="7619760" cy="3281040"/>
          </a:xfrm>
          <a:prstGeom prst="rect">
            <a:avLst/>
          </a:pr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00  REM  Message passing loop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10  &amp;  GET MSG#(2,IQ,L,BUF): REM  Receive a message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30  IF  NOT  PEEK (1) GOTO 700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40  PRINT  CHR$ (7);: REM  Delay 100 ms. &amp; flash LED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50 K = K + 1: REM  Timeout counter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60  IF K &lt; 50 GOTO 600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80  END : REM  If 15 seconds w/o message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690 :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00  REM  Increment message age and pass it on..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10 K = 0: REM  Reset timeout counter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40 S =  PEEK (BUF + 1): REM  Message "age"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50  IF S = 50 GOTO 600: REM  Max trips--it stops here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60  POKE BUF + 1,S + 1: REM  Inc age by 1 and send it on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770 D =  INT ( RND (1) * NC) + 3: REM  Random destination, 3..NC+2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00  &amp; PUTMSG#(2,Q + D,20,BUF)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20  IF  NOT  PEEK (1) GOTO 600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30  PRINT "PUTMSG err."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840  EN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28800" y="5562720"/>
            <a:ext cx="54864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communication, no computatio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rate.Synth: Master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s standard AppleCrate initi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s music file containing voice tables and music streams for each “oscillator”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s needed voices and music into each sl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s synthesizer into each slave and starts it (waiting for &amp;BPO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s all slaves in sync when requ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828800" y="548640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process could benefit substantially from parallel loading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rate.Synth: Slaves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s for master’s &amp;BPOKE to st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tches commands from music stream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” for T samples (11,025 samples/second)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y note N for T samples in current voic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 to voice V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 and return to SERVE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666880" y="5486400"/>
            <a:ext cx="3733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y oscillator can play any voice at any tim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Questions and discussion...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OK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(A Typical Protocol)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E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E 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Data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ck/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733920" y="2209680"/>
            <a:ext cx="350496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3733920" y="2666880"/>
            <a:ext cx="350496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 rot="5400000">
            <a:off x="5332680" y="350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733920" y="3489480"/>
            <a:ext cx="350496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3733920" y="3946680"/>
            <a:ext cx="350496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3733920" y="3124080"/>
            <a:ext cx="350496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H="1">
            <a:off x="3733920" y="4419720"/>
            <a:ext cx="3504960" cy="0"/>
          </a:xfrm>
          <a:prstGeom prst="line">
            <a:avLst/>
          </a:prstGeom>
          <a:ln w="4428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162920" y="1905120"/>
            <a:ext cx="129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y AppleCrate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early 1990s, I became interested in “clustered” machines:  parallel computers connected by a 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nterest naturally turned to Apple II computers, and the possibility of creating an Apple II “blade server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ucky eBay bid in 2003 netted me 25 Apple //e main boards (14 enhanced) for $39, including shippi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828800" y="5824440"/>
            <a:ext cx="54864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cause it can be done!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Control Packet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56" name="Group 19"/>
          <p:cNvGrpSpPr/>
          <p:nvPr/>
        </p:nvGrpSpPr>
        <p:grpSpPr>
          <a:xfrm>
            <a:off x="1143000" y="1752480"/>
            <a:ext cx="6858000" cy="685800"/>
            <a:chOff x="1143000" y="1752480"/>
            <a:chExt cx="6858000" cy="685800"/>
          </a:xfrm>
        </p:grpSpPr>
        <p:sp>
          <p:nvSpPr>
            <p:cNvPr id="257" name="Rectangle 3"/>
            <p:cNvSpPr/>
            <p:nvPr/>
          </p:nvSpPr>
          <p:spPr>
            <a:xfrm>
              <a:off x="1143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8" name="Rectangle 4"/>
            <p:cNvSpPr/>
            <p:nvPr/>
          </p:nvSpPr>
          <p:spPr>
            <a:xfrm>
              <a:off x="1905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59" name="Rectangle 5"/>
            <p:cNvSpPr/>
            <p:nvPr/>
          </p:nvSpPr>
          <p:spPr>
            <a:xfrm>
              <a:off x="2667240" y="1752480"/>
              <a:ext cx="76176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429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1" name="Rectangle 7"/>
            <p:cNvSpPr/>
            <p:nvPr/>
          </p:nvSpPr>
          <p:spPr>
            <a:xfrm>
              <a:off x="4191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>
              <a:off x="4953240" y="1752480"/>
              <a:ext cx="76176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>
              <a:off x="571500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6477120" y="1752480"/>
              <a:ext cx="762120" cy="68580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7239240" y="1752480"/>
              <a:ext cx="761760" cy="685800"/>
            </a:xfrm>
            <a:prstGeom prst="rect">
              <a:avLst/>
            </a:prstGeom>
            <a:solidFill>
              <a:srgbClr val="3366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6" name="Text Box 12"/>
            <p:cNvSpPr/>
            <p:nvPr/>
          </p:nvSpPr>
          <p:spPr>
            <a:xfrm>
              <a:off x="117504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7" name="Text Box 13"/>
            <p:cNvSpPr/>
            <p:nvPr/>
          </p:nvSpPr>
          <p:spPr>
            <a:xfrm>
              <a:off x="1941480" y="1914480"/>
              <a:ext cx="685800" cy="398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Request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Modifier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8" name="Text Box 14"/>
            <p:cNvSpPr/>
            <p:nvPr/>
          </p:nvSpPr>
          <p:spPr>
            <a:xfrm>
              <a:off x="270360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Dest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3465720" y="1960560"/>
              <a:ext cx="68580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From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4552920" y="1960560"/>
              <a:ext cx="80172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Address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6072480" y="1960560"/>
              <a:ext cx="801360" cy="2462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Length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>
              <a:off x="7267680" y="1960560"/>
              <a:ext cx="706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00"/>
                  </a:solidFill>
                  <a:latin typeface="Arial"/>
                </a:rPr>
                <a:t>Cksum</a:t>
              </a:r>
              <a:endParaRPr b="0" lang="en-US" sz="10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dentifies all control packets of a given request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EK, POKE, CALL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dif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pecifies the role of the packet within the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, Request Ack, Data Ack, Na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target machine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the sending machine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generally) specifies an address in the target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generally) specifies a data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ks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n EOR checksum of all bytes in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2133720" y="6095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Control packets are ~1ms long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adanet Data Format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6" name="Rectangle 33"/>
          <p:cNvSpPr/>
          <p:nvPr/>
        </p:nvSpPr>
        <p:spPr>
          <a:xfrm>
            <a:off x="6900840" y="1947960"/>
            <a:ext cx="468360" cy="58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7369200" y="1947960"/>
            <a:ext cx="468360" cy="58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1500120" y="1947960"/>
            <a:ext cx="1171800" cy="585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455760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4557600" y="2533680"/>
            <a:ext cx="936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 flipV="1">
            <a:off x="5494320" y="194760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549432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>
            <a:off x="596268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5962680" y="2533680"/>
            <a:ext cx="469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 flipV="1">
            <a:off x="6432480" y="194760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643248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690084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736920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2"/>
          <p:cNvSpPr/>
          <p:nvPr/>
        </p:nvSpPr>
        <p:spPr>
          <a:xfrm>
            <a:off x="7837560" y="194796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24"/>
          <p:cNvSpPr/>
          <p:nvPr/>
        </p:nvSpPr>
        <p:spPr>
          <a:xfrm>
            <a:off x="7837560" y="194796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Line 25"/>
          <p:cNvSpPr/>
          <p:nvPr/>
        </p:nvSpPr>
        <p:spPr>
          <a:xfrm>
            <a:off x="7837560" y="25336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27"/>
          <p:cNvSpPr/>
          <p:nvPr/>
        </p:nvSpPr>
        <p:spPr>
          <a:xfrm flipH="1">
            <a:off x="914400" y="2533680"/>
            <a:ext cx="1757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Line 32"/>
          <p:cNvSpPr/>
          <p:nvPr/>
        </p:nvSpPr>
        <p:spPr>
          <a:xfrm>
            <a:off x="914400" y="2533680"/>
            <a:ext cx="117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1752480" y="206064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Locked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r Idl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Text Box 38"/>
          <p:cNvSpPr/>
          <p:nvPr/>
        </p:nvSpPr>
        <p:spPr>
          <a:xfrm>
            <a:off x="547056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Text Box 39"/>
          <p:cNvSpPr/>
          <p:nvPr/>
        </p:nvSpPr>
        <p:spPr>
          <a:xfrm>
            <a:off x="4687920" y="2060640"/>
            <a:ext cx="685800" cy="398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16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3321000" y="2060640"/>
            <a:ext cx="685800" cy="398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31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98" name="Group 52"/>
          <p:cNvGrpSpPr/>
          <p:nvPr/>
        </p:nvGrpSpPr>
        <p:grpSpPr>
          <a:xfrm>
            <a:off x="2057400" y="1863720"/>
            <a:ext cx="101520" cy="152280"/>
            <a:chOff x="2057400" y="1863720"/>
            <a:chExt cx="101520" cy="152280"/>
          </a:xfrm>
        </p:grpSpPr>
        <p:sp>
          <p:nvSpPr>
            <p:cNvPr id="299" name="Freeform 50"/>
            <p:cNvSpPr/>
            <p:nvPr/>
          </p:nvSpPr>
          <p:spPr>
            <a:xfrm>
              <a:off x="2057400" y="1863720"/>
              <a:ext cx="50760" cy="152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0" name="Freeform 51"/>
            <p:cNvSpPr/>
            <p:nvPr/>
          </p:nvSpPr>
          <p:spPr>
            <a:xfrm>
              <a:off x="2108160" y="1863720"/>
              <a:ext cx="50760" cy="15228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grpSp>
        <p:nvGrpSpPr>
          <p:cNvPr id="301" name="Group 53"/>
          <p:cNvGrpSpPr/>
          <p:nvPr/>
        </p:nvGrpSpPr>
        <p:grpSpPr>
          <a:xfrm>
            <a:off x="2057400" y="2457360"/>
            <a:ext cx="101520" cy="152640"/>
            <a:chOff x="2057400" y="2457360"/>
            <a:chExt cx="101520" cy="152640"/>
          </a:xfrm>
        </p:grpSpPr>
        <p:sp>
          <p:nvSpPr>
            <p:cNvPr id="302" name="Freeform 54"/>
            <p:cNvSpPr/>
            <p:nvPr/>
          </p:nvSpPr>
          <p:spPr>
            <a:xfrm>
              <a:off x="2057400" y="2457360"/>
              <a:ext cx="50760" cy="152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303" name="Freeform 55"/>
            <p:cNvSpPr/>
            <p:nvPr/>
          </p:nvSpPr>
          <p:spPr>
            <a:xfrm>
              <a:off x="2108160" y="2457360"/>
              <a:ext cx="50760" cy="15264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304" name="Text Box 56"/>
          <p:cNvSpPr/>
          <p:nvPr/>
        </p:nvSpPr>
        <p:spPr>
          <a:xfrm>
            <a:off x="5896080" y="2060640"/>
            <a:ext cx="63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Text Box 57"/>
          <p:cNvSpPr/>
          <p:nvPr/>
        </p:nvSpPr>
        <p:spPr>
          <a:xfrm>
            <a:off x="640080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687852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7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Text Box 61"/>
          <p:cNvSpPr/>
          <p:nvPr/>
        </p:nvSpPr>
        <p:spPr>
          <a:xfrm>
            <a:off x="7346880" y="20606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6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Text Box 62"/>
          <p:cNvSpPr/>
          <p:nvPr/>
        </p:nvSpPr>
        <p:spPr>
          <a:xfrm>
            <a:off x="7848720" y="1952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Rectangle 63"/>
          <p:cNvSpPr/>
          <p:nvPr/>
        </p:nvSpPr>
        <p:spPr>
          <a:xfrm>
            <a:off x="2416320" y="3736800"/>
            <a:ext cx="468000" cy="586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Rectangle 64"/>
          <p:cNvSpPr/>
          <p:nvPr/>
        </p:nvSpPr>
        <p:spPr>
          <a:xfrm>
            <a:off x="2884320" y="3736800"/>
            <a:ext cx="468360" cy="586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66"/>
          <p:cNvSpPr/>
          <p:nvPr/>
        </p:nvSpPr>
        <p:spPr>
          <a:xfrm>
            <a:off x="194796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67"/>
          <p:cNvSpPr/>
          <p:nvPr/>
        </p:nvSpPr>
        <p:spPr>
          <a:xfrm>
            <a:off x="2416320" y="3736800"/>
            <a:ext cx="46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68"/>
          <p:cNvSpPr/>
          <p:nvPr/>
        </p:nvSpPr>
        <p:spPr>
          <a:xfrm>
            <a:off x="288432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69"/>
          <p:cNvSpPr/>
          <p:nvPr/>
        </p:nvSpPr>
        <p:spPr>
          <a:xfrm>
            <a:off x="335268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Text Box 70"/>
          <p:cNvSpPr/>
          <p:nvPr/>
        </p:nvSpPr>
        <p:spPr>
          <a:xfrm>
            <a:off x="239400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1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904760" y="432288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73"/>
          <p:cNvSpPr/>
          <p:nvPr/>
        </p:nvSpPr>
        <p:spPr>
          <a:xfrm>
            <a:off x="1905120" y="432288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74"/>
          <p:cNvSpPr/>
          <p:nvPr/>
        </p:nvSpPr>
        <p:spPr>
          <a:xfrm>
            <a:off x="1905120" y="373680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2857680" y="3849840"/>
            <a:ext cx="53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0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Rectangle 77"/>
          <p:cNvSpPr/>
          <p:nvPr/>
        </p:nvSpPr>
        <p:spPr>
          <a:xfrm>
            <a:off x="5300640" y="3736800"/>
            <a:ext cx="468360" cy="586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Rectangle 78"/>
          <p:cNvSpPr/>
          <p:nvPr/>
        </p:nvSpPr>
        <p:spPr>
          <a:xfrm>
            <a:off x="5769000" y="3736800"/>
            <a:ext cx="468360" cy="586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79"/>
          <p:cNvSpPr/>
          <p:nvPr/>
        </p:nvSpPr>
        <p:spPr>
          <a:xfrm flipV="1">
            <a:off x="483228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80"/>
          <p:cNvSpPr/>
          <p:nvPr/>
        </p:nvSpPr>
        <p:spPr>
          <a:xfrm>
            <a:off x="483228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81"/>
          <p:cNvSpPr/>
          <p:nvPr/>
        </p:nvSpPr>
        <p:spPr>
          <a:xfrm>
            <a:off x="530064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82"/>
          <p:cNvSpPr/>
          <p:nvPr/>
        </p:nvSpPr>
        <p:spPr>
          <a:xfrm>
            <a:off x="576900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83"/>
          <p:cNvSpPr/>
          <p:nvPr/>
        </p:nvSpPr>
        <p:spPr>
          <a:xfrm>
            <a:off x="6237360" y="3736800"/>
            <a:ext cx="0" cy="5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84"/>
          <p:cNvSpPr/>
          <p:nvPr/>
        </p:nvSpPr>
        <p:spPr>
          <a:xfrm>
            <a:off x="6237360" y="373680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85"/>
          <p:cNvSpPr/>
          <p:nvPr/>
        </p:nvSpPr>
        <p:spPr>
          <a:xfrm>
            <a:off x="6237360" y="43228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Text Box 86"/>
          <p:cNvSpPr/>
          <p:nvPr/>
        </p:nvSpPr>
        <p:spPr>
          <a:xfrm>
            <a:off x="3746520" y="384984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22-23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Text Box 87"/>
          <p:cNvSpPr/>
          <p:nvPr/>
        </p:nvSpPr>
        <p:spPr>
          <a:xfrm>
            <a:off x="480060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ONE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Text Box 88"/>
          <p:cNvSpPr/>
          <p:nvPr/>
        </p:nvSpPr>
        <p:spPr>
          <a:xfrm>
            <a:off x="527832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7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Text Box 89"/>
          <p:cNvSpPr/>
          <p:nvPr/>
        </p:nvSpPr>
        <p:spPr>
          <a:xfrm>
            <a:off x="5746680" y="384984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6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Text Box 90"/>
          <p:cNvSpPr/>
          <p:nvPr/>
        </p:nvSpPr>
        <p:spPr>
          <a:xfrm>
            <a:off x="6248520" y="3741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Line 91"/>
          <p:cNvSpPr/>
          <p:nvPr/>
        </p:nvSpPr>
        <p:spPr>
          <a:xfrm>
            <a:off x="2658960" y="1947960"/>
            <a:ext cx="190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92"/>
          <p:cNvSpPr/>
          <p:nvPr/>
        </p:nvSpPr>
        <p:spPr>
          <a:xfrm>
            <a:off x="3316320" y="4322880"/>
            <a:ext cx="1523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Text Box 93"/>
          <p:cNvSpPr/>
          <p:nvPr/>
        </p:nvSpPr>
        <p:spPr>
          <a:xfrm>
            <a:off x="1965240" y="37130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Rectangle 94"/>
          <p:cNvSpPr/>
          <p:nvPr/>
        </p:nvSpPr>
        <p:spPr>
          <a:xfrm>
            <a:off x="2416320" y="5208480"/>
            <a:ext cx="468000" cy="58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Rectangle 95"/>
          <p:cNvSpPr/>
          <p:nvPr/>
        </p:nvSpPr>
        <p:spPr>
          <a:xfrm>
            <a:off x="2884320" y="5208480"/>
            <a:ext cx="468360" cy="585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96"/>
          <p:cNvSpPr/>
          <p:nvPr/>
        </p:nvSpPr>
        <p:spPr>
          <a:xfrm>
            <a:off x="1947960" y="52084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97"/>
          <p:cNvSpPr/>
          <p:nvPr/>
        </p:nvSpPr>
        <p:spPr>
          <a:xfrm>
            <a:off x="2416320" y="5208480"/>
            <a:ext cx="46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98"/>
          <p:cNvSpPr/>
          <p:nvPr/>
        </p:nvSpPr>
        <p:spPr>
          <a:xfrm>
            <a:off x="2884320" y="5208480"/>
            <a:ext cx="46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99"/>
          <p:cNvSpPr/>
          <p:nvPr/>
        </p:nvSpPr>
        <p:spPr>
          <a:xfrm>
            <a:off x="3352680" y="5208480"/>
            <a:ext cx="0" cy="585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Text Box 100"/>
          <p:cNvSpPr/>
          <p:nvPr/>
        </p:nvSpPr>
        <p:spPr>
          <a:xfrm>
            <a:off x="2394000" y="5321160"/>
            <a:ext cx="533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1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101"/>
          <p:cNvSpPr/>
          <p:nvPr/>
        </p:nvSpPr>
        <p:spPr>
          <a:xfrm flipH="1">
            <a:off x="1904760" y="579420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102"/>
          <p:cNvSpPr/>
          <p:nvPr/>
        </p:nvSpPr>
        <p:spPr>
          <a:xfrm>
            <a:off x="1905120" y="579420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103"/>
          <p:cNvSpPr/>
          <p:nvPr/>
        </p:nvSpPr>
        <p:spPr>
          <a:xfrm>
            <a:off x="1905120" y="5208480"/>
            <a:ext cx="759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Text Box 104"/>
          <p:cNvSpPr/>
          <p:nvPr/>
        </p:nvSpPr>
        <p:spPr>
          <a:xfrm>
            <a:off x="2857680" y="5321160"/>
            <a:ext cx="53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Bit 0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8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Text Box 106"/>
          <p:cNvSpPr/>
          <p:nvPr/>
        </p:nvSpPr>
        <p:spPr>
          <a:xfrm>
            <a:off x="3746520" y="532116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ZERO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(Idle)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Text Box 108"/>
          <p:cNvSpPr/>
          <p:nvPr/>
        </p:nvSpPr>
        <p:spPr>
          <a:xfrm>
            <a:off x="1965240" y="5184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Line 109"/>
          <p:cNvSpPr/>
          <p:nvPr/>
        </p:nvSpPr>
        <p:spPr>
          <a:xfrm>
            <a:off x="3352680" y="5794200"/>
            <a:ext cx="32767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Text Box 111"/>
          <p:cNvSpPr/>
          <p:nvPr/>
        </p:nvSpPr>
        <p:spPr>
          <a:xfrm>
            <a:off x="2870280" y="6080040"/>
            <a:ext cx="95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d of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eckbyt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115"/>
          <p:cNvSpPr/>
          <p:nvPr/>
        </p:nvSpPr>
        <p:spPr>
          <a:xfrm flipV="1">
            <a:off x="3352680" y="587016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Text Box 116"/>
          <p:cNvSpPr/>
          <p:nvPr/>
        </p:nvSpPr>
        <p:spPr>
          <a:xfrm>
            <a:off x="685800" y="4788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acket end: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Text Box 117"/>
          <p:cNvSpPr/>
          <p:nvPr/>
        </p:nvSpPr>
        <p:spPr>
          <a:xfrm>
            <a:off x="685800" y="332424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Interbyte separator: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Text Box 118"/>
          <p:cNvSpPr/>
          <p:nvPr/>
        </p:nvSpPr>
        <p:spPr>
          <a:xfrm>
            <a:off x="685800" y="156384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Start of packet: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Text Box 119"/>
          <p:cNvSpPr/>
          <p:nvPr/>
        </p:nvSpPr>
        <p:spPr>
          <a:xfrm>
            <a:off x="4475160" y="4592520"/>
            <a:ext cx="72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o ed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120"/>
          <p:cNvSpPr/>
          <p:nvPr/>
        </p:nvSpPr>
        <p:spPr>
          <a:xfrm flipV="1">
            <a:off x="4840200" y="439848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Text Box 121"/>
          <p:cNvSpPr/>
          <p:nvPr/>
        </p:nvSpPr>
        <p:spPr>
          <a:xfrm>
            <a:off x="6066000" y="2803680"/>
            <a:ext cx="72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o edg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122"/>
          <p:cNvSpPr/>
          <p:nvPr/>
        </p:nvSpPr>
        <p:spPr>
          <a:xfrm flipV="1">
            <a:off x="643248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Text Box 123"/>
          <p:cNvSpPr/>
          <p:nvPr/>
        </p:nvSpPr>
        <p:spPr>
          <a:xfrm>
            <a:off x="4965840" y="2803680"/>
            <a:ext cx="104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arse syn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124"/>
          <p:cNvSpPr/>
          <p:nvPr/>
        </p:nvSpPr>
        <p:spPr>
          <a:xfrm flipV="1">
            <a:off x="548964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Text Box 125"/>
          <p:cNvSpPr/>
          <p:nvPr/>
        </p:nvSpPr>
        <p:spPr>
          <a:xfrm>
            <a:off x="4102200" y="2803680"/>
            <a:ext cx="87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art sync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126"/>
          <p:cNvSpPr/>
          <p:nvPr/>
        </p:nvSpPr>
        <p:spPr>
          <a:xfrm flipV="1">
            <a:off x="4551480" y="260964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64" name="AutoShape 127"/>
          <p:cNvCxnSpPr/>
          <p:nvPr/>
        </p:nvCxnSpPr>
        <p:spPr>
          <a:xfrm>
            <a:off x="2690640" y="1755360"/>
            <a:ext cx="4191840" cy="1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5" name="AutoShape 128"/>
          <p:cNvCxnSpPr/>
          <p:nvPr/>
        </p:nvCxnSpPr>
        <p:spPr>
          <a:xfrm>
            <a:off x="3352680" y="3541320"/>
            <a:ext cx="1982160" cy="1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6" name="Text Box 129"/>
          <p:cNvSpPr/>
          <p:nvPr/>
        </p:nvSpPr>
        <p:spPr>
          <a:xfrm>
            <a:off x="3946680" y="3325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30-31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Text Box 130"/>
          <p:cNvSpPr/>
          <p:nvPr/>
        </p:nvSpPr>
        <p:spPr>
          <a:xfrm>
            <a:off x="4343400" y="1539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71 cy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NadaNet Arbitration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ways listen before s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for net to be idle for 1 millisecond + ID * 22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 ID machines have higher arbitration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ze net by forcing HIGH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11-cycle sample-to-seize window for idle net coll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quen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s “locked” until it is idle for longer than 1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requests satisfy this requirement and so are atom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ppleCrate I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14440" y="2133720"/>
            <a:ext cx="4876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8-machine Apple //e cluster, all unenhanced mach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s modified for NadaNet boot (from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ed by PC power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 for a desktop, but quite fragile for trave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C:\Apple II Development\NadaNet\Web\Image6.jpg"/>
          <p:cNvPicPr/>
          <p:nvPr/>
        </p:nvPicPr>
        <p:blipFill>
          <a:blip r:embed="rId1"/>
          <a:stretch/>
        </p:blipFill>
        <p:spPr>
          <a:xfrm>
            <a:off x="533520" y="20574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Why AppleCrate II?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 of the 25 main boards, 14 were Enhanced //e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512 bytes of self-test space in ROM required a new “passive” network boot protoc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ed a ‘Crate that was mechanically robust and compact enough to trav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ed to scale it up to 16 machines, and incorporate a “master” for conveni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anted better quality sound outp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905120" y="5764320"/>
            <a:ext cx="54864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machine to suppor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llel programming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n Apple II’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ppleCrate II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 Enhanced //e bo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“master” and 16 “slave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-contained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can be attached to the top board, so it is the “maste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boards stacked horizontally using standoffs for rigid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power ~70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~4.2 Watts per bo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-channel s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al mixer / filter / ampl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ID daisy chain causes IDs      to be assigned top-to-bot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1430575cps" descr=""/>
          <p:cNvPicPr/>
          <p:nvPr/>
        </p:nvPicPr>
        <p:blipFill>
          <a:blip r:embed="rId1"/>
          <a:stretch/>
        </p:blipFill>
        <p:spPr>
          <a:xfrm>
            <a:off x="592200" y="1676520"/>
            <a:ext cx="35226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arallel Programming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undamental problem is maximizing the degree of concurrent computation to minimiz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ime to comple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achieve that it is necessary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comp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program into part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 sufficient computation so that communication cost does not dominate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sufficiently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depend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o that communication does not dominate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not leave a few large/long sequential tasks whose computation will dominate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ipeline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is divided into “phases” or “stages”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 approximately the same time to comple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performed essentially independently on many different data 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the times required by each stage independent of the data can be diffic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ipeline runs at the speed of the slowest st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roblem in any stage is a problem for the whole pipe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828800" y="6026040"/>
            <a:ext cx="5638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approach can be compared to an assembly lin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286000" y="5257800"/>
            <a:ext cx="4800600" cy="228600"/>
            <a:chOff x="2286000" y="5257800"/>
            <a:chExt cx="4800600" cy="228600"/>
          </a:xfrm>
        </p:grpSpPr>
        <p:grpSp>
          <p:nvGrpSpPr>
            <p:cNvPr id="95" name=""/>
            <p:cNvGrpSpPr/>
            <p:nvPr/>
          </p:nvGrpSpPr>
          <p:grpSpPr>
            <a:xfrm>
              <a:off x="2286000" y="5257800"/>
              <a:ext cx="609480" cy="228600"/>
              <a:chOff x="2286000" y="5257800"/>
              <a:chExt cx="609480" cy="228600"/>
            </a:xfrm>
          </p:grpSpPr>
          <p:sp>
            <p:nvSpPr>
              <p:cNvPr id="96" name=""/>
              <p:cNvSpPr/>
              <p:nvPr/>
            </p:nvSpPr>
            <p:spPr>
              <a:xfrm>
                <a:off x="228600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97" name=""/>
              <p:cNvCxnSpPr>
                <a:stCxn id="96" idx="6"/>
              </p:cNvCxnSpPr>
              <p:nvPr/>
            </p:nvCxnSpPr>
            <p:spPr>
              <a:xfrm>
                <a:off x="252684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98" name=""/>
            <p:cNvGrpSpPr/>
            <p:nvPr/>
          </p:nvGrpSpPr>
          <p:grpSpPr>
            <a:xfrm>
              <a:off x="2886120" y="5257800"/>
              <a:ext cx="609480" cy="228600"/>
              <a:chOff x="2886120" y="5257800"/>
              <a:chExt cx="609480" cy="228600"/>
            </a:xfrm>
          </p:grpSpPr>
          <p:sp>
            <p:nvSpPr>
              <p:cNvPr id="99" name=""/>
              <p:cNvSpPr/>
              <p:nvPr/>
            </p:nvSpPr>
            <p:spPr>
              <a:xfrm>
                <a:off x="2886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0" name=""/>
              <p:cNvCxnSpPr>
                <a:stCxn id="99" idx="6"/>
              </p:cNvCxnSpPr>
              <p:nvPr/>
            </p:nvCxnSpPr>
            <p:spPr>
              <a:xfrm>
                <a:off x="3126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01" name=""/>
            <p:cNvGrpSpPr/>
            <p:nvPr/>
          </p:nvGrpSpPr>
          <p:grpSpPr>
            <a:xfrm>
              <a:off x="4083120" y="5257800"/>
              <a:ext cx="609480" cy="228600"/>
              <a:chOff x="4083120" y="5257800"/>
              <a:chExt cx="609480" cy="228600"/>
            </a:xfrm>
          </p:grpSpPr>
          <p:sp>
            <p:nvSpPr>
              <p:cNvPr id="102" name=""/>
              <p:cNvSpPr/>
              <p:nvPr/>
            </p:nvSpPr>
            <p:spPr>
              <a:xfrm>
                <a:off x="4083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3" name=""/>
              <p:cNvCxnSpPr>
                <a:stCxn id="102" idx="6"/>
              </p:cNvCxnSpPr>
              <p:nvPr/>
            </p:nvCxnSpPr>
            <p:spPr>
              <a:xfrm>
                <a:off x="4323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04" name=""/>
            <p:cNvGrpSpPr/>
            <p:nvPr/>
          </p:nvGrpSpPr>
          <p:grpSpPr>
            <a:xfrm>
              <a:off x="5280120" y="5257800"/>
              <a:ext cx="609480" cy="228600"/>
              <a:chOff x="5280120" y="5257800"/>
              <a:chExt cx="609480" cy="228600"/>
            </a:xfrm>
          </p:grpSpPr>
          <p:sp>
            <p:nvSpPr>
              <p:cNvPr id="105" name=""/>
              <p:cNvSpPr/>
              <p:nvPr/>
            </p:nvSpPr>
            <p:spPr>
              <a:xfrm>
                <a:off x="5280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6" name=""/>
              <p:cNvCxnSpPr>
                <a:stCxn id="105" idx="6"/>
              </p:cNvCxnSpPr>
              <p:nvPr/>
            </p:nvCxnSpPr>
            <p:spPr>
              <a:xfrm>
                <a:off x="5520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07" name=""/>
            <p:cNvGrpSpPr/>
            <p:nvPr/>
          </p:nvGrpSpPr>
          <p:grpSpPr>
            <a:xfrm>
              <a:off x="6477120" y="5257800"/>
              <a:ext cx="609480" cy="228600"/>
              <a:chOff x="6477120" y="5257800"/>
              <a:chExt cx="609480" cy="228600"/>
            </a:xfrm>
          </p:grpSpPr>
          <p:sp>
            <p:nvSpPr>
              <p:cNvPr id="108" name=""/>
              <p:cNvSpPr/>
              <p:nvPr/>
            </p:nvSpPr>
            <p:spPr>
              <a:xfrm>
                <a:off x="647712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09" name=""/>
              <p:cNvCxnSpPr>
                <a:stCxn id="108" idx="6"/>
              </p:cNvCxnSpPr>
              <p:nvPr/>
            </p:nvCxnSpPr>
            <p:spPr>
              <a:xfrm>
                <a:off x="671796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10" name=""/>
            <p:cNvGrpSpPr/>
            <p:nvPr/>
          </p:nvGrpSpPr>
          <p:grpSpPr>
            <a:xfrm>
              <a:off x="3484440" y="5257800"/>
              <a:ext cx="609480" cy="228600"/>
              <a:chOff x="3484440" y="5257800"/>
              <a:chExt cx="609480" cy="228600"/>
            </a:xfrm>
          </p:grpSpPr>
          <p:sp>
            <p:nvSpPr>
              <p:cNvPr id="111" name=""/>
              <p:cNvSpPr/>
              <p:nvPr/>
            </p:nvSpPr>
            <p:spPr>
              <a:xfrm>
                <a:off x="348444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12" name=""/>
              <p:cNvCxnSpPr>
                <a:stCxn id="111" idx="6"/>
              </p:cNvCxnSpPr>
              <p:nvPr/>
            </p:nvCxnSpPr>
            <p:spPr>
              <a:xfrm>
                <a:off x="372528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13" name=""/>
            <p:cNvGrpSpPr/>
            <p:nvPr/>
          </p:nvGrpSpPr>
          <p:grpSpPr>
            <a:xfrm>
              <a:off x="4681440" y="5257800"/>
              <a:ext cx="609480" cy="228600"/>
              <a:chOff x="4681440" y="5257800"/>
              <a:chExt cx="609480" cy="228600"/>
            </a:xfrm>
          </p:grpSpPr>
          <p:sp>
            <p:nvSpPr>
              <p:cNvPr id="114" name=""/>
              <p:cNvSpPr/>
              <p:nvPr/>
            </p:nvSpPr>
            <p:spPr>
              <a:xfrm>
                <a:off x="468144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15" name=""/>
              <p:cNvCxnSpPr>
                <a:stCxn id="114" idx="6"/>
              </p:cNvCxnSpPr>
              <p:nvPr/>
            </p:nvCxnSpPr>
            <p:spPr>
              <a:xfrm>
                <a:off x="492228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116" name=""/>
            <p:cNvGrpSpPr/>
            <p:nvPr/>
          </p:nvGrpSpPr>
          <p:grpSpPr>
            <a:xfrm>
              <a:off x="5878440" y="5257800"/>
              <a:ext cx="609480" cy="228600"/>
              <a:chOff x="5878440" y="5257800"/>
              <a:chExt cx="609480" cy="228600"/>
            </a:xfrm>
          </p:grpSpPr>
          <p:sp>
            <p:nvSpPr>
              <p:cNvPr id="117" name=""/>
              <p:cNvSpPr/>
              <p:nvPr/>
            </p:nvSpPr>
            <p:spPr>
              <a:xfrm>
                <a:off x="5878440" y="5257800"/>
                <a:ext cx="228600" cy="2286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117" idx="6"/>
              </p:cNvCxnSpPr>
              <p:nvPr/>
            </p:nvCxnSpPr>
            <p:spPr>
              <a:xfrm>
                <a:off x="6119280" y="5371560"/>
                <a:ext cx="369000" cy="1080"/>
              </a:xfrm>
              <a:prstGeom prst="straightConnector1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Process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is divided into separate processe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take any amount of time or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performed independently on different data 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y particular data set may have a unique path through the network of proc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sets (“jobs”) queue for each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ing processing resources to minimize queueing can be very diffic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95280" y="6029280"/>
            <a:ext cx="6782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is approach can be compared to scheduling a machine shop floor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8440" y="4876920"/>
            <a:ext cx="5702760" cy="861480"/>
            <a:chOff x="1828440" y="4876920"/>
            <a:chExt cx="5702760" cy="861480"/>
          </a:xfrm>
        </p:grpSpPr>
        <p:cxnSp>
          <p:nvCxnSpPr>
            <p:cNvPr id="123" name=""/>
            <p:cNvCxnSpPr/>
            <p:nvPr/>
          </p:nvCxnSpPr>
          <p:spPr>
            <a:xfrm>
              <a:off x="1828440" y="539532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4" name=""/>
            <p:cNvSpPr/>
            <p:nvPr/>
          </p:nvSpPr>
          <p:spPr>
            <a:xfrm>
              <a:off x="2502000" y="528156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24" idx="6"/>
            </p:cNvCxnSpPr>
            <p:nvPr/>
          </p:nvCxnSpPr>
          <p:spPr>
            <a:xfrm flipV="1">
              <a:off x="2742840" y="5052600"/>
              <a:ext cx="292680" cy="3427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6" name=""/>
            <p:cNvSpPr/>
            <p:nvPr/>
          </p:nvSpPr>
          <p:spPr>
            <a:xfrm>
              <a:off x="2178000" y="528156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82920" y="5281560"/>
              <a:ext cx="0" cy="228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8000" y="551016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28920" y="5319720"/>
              <a:ext cx="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70160" y="5319720"/>
              <a:ext cx="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49360" y="5319720"/>
              <a:ext cx="0" cy="151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86160" y="551016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33" name=""/>
            <p:cNvCxnSpPr>
              <a:stCxn id="132" idx="6"/>
            </p:cNvCxnSpPr>
            <p:nvPr/>
          </p:nvCxnSpPr>
          <p:spPr>
            <a:xfrm flipV="1">
              <a:off x="3627360" y="5585400"/>
              <a:ext cx="2075760" cy="385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34" name=""/>
            <p:cNvGrpSpPr/>
            <p:nvPr/>
          </p:nvGrpSpPr>
          <p:grpSpPr>
            <a:xfrm>
              <a:off x="3062160" y="5510160"/>
              <a:ext cx="304920" cy="228240"/>
              <a:chOff x="3062160" y="5510160"/>
              <a:chExt cx="304920" cy="228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062160" y="551016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67080" y="551016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62160" y="573840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130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5432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2338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4270320" y="518148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42" name=""/>
            <p:cNvCxnSpPr>
              <a:stCxn id="141" idx="6"/>
            </p:cNvCxnSpPr>
            <p:nvPr/>
          </p:nvCxnSpPr>
          <p:spPr>
            <a:xfrm>
              <a:off x="4511520" y="5295960"/>
              <a:ext cx="2029680" cy="1144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3946680" y="5181480"/>
              <a:ext cx="304560" cy="228240"/>
              <a:chOff x="3946680" y="5181480"/>
              <a:chExt cx="304560" cy="228240"/>
            </a:xfrm>
          </p:grpSpPr>
          <p:sp>
            <p:nvSpPr>
              <p:cNvPr id="144" name=""/>
              <p:cNvSpPr/>
              <p:nvPr/>
            </p:nvSpPr>
            <p:spPr>
              <a:xfrm>
                <a:off x="3946680" y="518148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51240" y="518148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46680" y="540972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97240" y="521928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38480" y="521928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18040" y="521928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5130720" y="487692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51" name=""/>
            <p:cNvCxnSpPr>
              <a:stCxn id="150" idx="6"/>
            </p:cNvCxnSpPr>
            <p:nvPr/>
          </p:nvCxnSpPr>
          <p:spPr>
            <a:xfrm>
              <a:off x="5371920" y="4990680"/>
              <a:ext cx="1221480" cy="3427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52" name=""/>
            <p:cNvGrpSpPr/>
            <p:nvPr/>
          </p:nvGrpSpPr>
          <p:grpSpPr>
            <a:xfrm>
              <a:off x="4807080" y="4876920"/>
              <a:ext cx="304560" cy="228240"/>
              <a:chOff x="4807080" y="4876920"/>
              <a:chExt cx="304560" cy="228240"/>
            </a:xfrm>
          </p:grpSpPr>
          <p:sp>
            <p:nvSpPr>
              <p:cNvPr id="153" name=""/>
              <p:cNvSpPr/>
              <p:nvPr/>
            </p:nvSpPr>
            <p:spPr>
              <a:xfrm>
                <a:off x="4807080" y="487692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11640" y="487692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807080" y="510516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5764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89888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7844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597720" y="5297400"/>
              <a:ext cx="933480" cy="228240"/>
              <a:chOff x="6597720" y="5297400"/>
              <a:chExt cx="933480" cy="22824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6921720" y="5297400"/>
                <a:ext cx="609480" cy="228240"/>
                <a:chOff x="6921720" y="5297400"/>
                <a:chExt cx="609480" cy="228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921720" y="5297400"/>
                  <a:ext cx="228600" cy="22824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cxnSp>
              <p:nvCxnSpPr>
                <p:cNvPr id="162" name=""/>
                <p:cNvCxnSpPr>
                  <a:stCxn id="161" idx="6"/>
                </p:cNvCxnSpPr>
                <p:nvPr/>
              </p:nvCxnSpPr>
              <p:spPr>
                <a:xfrm>
                  <a:off x="7162560" y="5410800"/>
                  <a:ext cx="369000" cy="1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163" name=""/>
              <p:cNvGrpSpPr/>
              <p:nvPr/>
            </p:nvGrpSpPr>
            <p:grpSpPr>
              <a:xfrm>
                <a:off x="6597720" y="5297400"/>
                <a:ext cx="304920" cy="228240"/>
                <a:chOff x="6597720" y="5297400"/>
                <a:chExt cx="304920" cy="2282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597720" y="5297400"/>
                  <a:ext cx="3049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02640" y="5297400"/>
                  <a:ext cx="0" cy="2282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597720" y="5525640"/>
                  <a:ext cx="3049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848640" y="5335200"/>
                  <a:ext cx="0" cy="1522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689880" y="5335200"/>
                  <a:ext cx="0" cy="1522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440" y="5335200"/>
                  <a:ext cx="0" cy="15228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"/>
            <p:cNvSpPr/>
            <p:nvPr/>
          </p:nvSpPr>
          <p:spPr>
            <a:xfrm>
              <a:off x="6006960" y="551016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71" name=""/>
            <p:cNvCxnSpPr>
              <a:stCxn id="170" idx="6"/>
            </p:cNvCxnSpPr>
            <p:nvPr/>
          </p:nvCxnSpPr>
          <p:spPr>
            <a:xfrm flipV="1">
              <a:off x="6248160" y="5433480"/>
              <a:ext cx="369000" cy="190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72" name=""/>
            <p:cNvGrpSpPr/>
            <p:nvPr/>
          </p:nvGrpSpPr>
          <p:grpSpPr>
            <a:xfrm>
              <a:off x="5683320" y="5510160"/>
              <a:ext cx="304560" cy="228240"/>
              <a:chOff x="5683320" y="5510160"/>
              <a:chExt cx="304560" cy="228240"/>
            </a:xfrm>
          </p:grpSpPr>
          <p:sp>
            <p:nvSpPr>
              <p:cNvPr id="173" name=""/>
              <p:cNvSpPr/>
              <p:nvPr/>
            </p:nvSpPr>
            <p:spPr>
              <a:xfrm>
                <a:off x="5683320" y="551016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87880" y="551016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83320" y="5738400"/>
                <a:ext cx="3045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338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7512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54680" y="554796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386160" y="487692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79" idx="6"/>
            </p:cNvCxnSpPr>
            <p:nvPr/>
          </p:nvCxnSpPr>
          <p:spPr>
            <a:xfrm flipV="1">
              <a:off x="3627360" y="4975920"/>
              <a:ext cx="1161360" cy="147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81" name=""/>
            <p:cNvGrpSpPr/>
            <p:nvPr/>
          </p:nvGrpSpPr>
          <p:grpSpPr>
            <a:xfrm>
              <a:off x="3062160" y="4876920"/>
              <a:ext cx="304920" cy="228240"/>
              <a:chOff x="3062160" y="4876920"/>
              <a:chExt cx="304920" cy="228240"/>
            </a:xfrm>
          </p:grpSpPr>
          <p:sp>
            <p:nvSpPr>
              <p:cNvPr id="182" name=""/>
              <p:cNvSpPr/>
              <p:nvPr/>
            </p:nvSpPr>
            <p:spPr>
              <a:xfrm>
                <a:off x="3062160" y="487692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67080" y="4876920"/>
                <a:ext cx="0" cy="228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62160" y="5105160"/>
                <a:ext cx="304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1308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15432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33880" y="4914720"/>
                <a:ext cx="0" cy="15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cxnSp>
          <p:nvCxnSpPr>
            <p:cNvPr id="188" name=""/>
            <p:cNvCxnSpPr>
              <a:stCxn id="124" idx="6"/>
            </p:cNvCxnSpPr>
            <p:nvPr/>
          </p:nvCxnSpPr>
          <p:spPr>
            <a:xfrm>
              <a:off x="2742840" y="5395680"/>
              <a:ext cx="292680" cy="190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79" idx="6"/>
            </p:cNvCxnSpPr>
            <p:nvPr/>
          </p:nvCxnSpPr>
          <p:spPr>
            <a:xfrm>
              <a:off x="3627000" y="4991040"/>
              <a:ext cx="322920" cy="2908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32" idx="6"/>
            </p:cNvCxnSpPr>
            <p:nvPr/>
          </p:nvCxnSpPr>
          <p:spPr>
            <a:xfrm flipV="1">
              <a:off x="3627000" y="5333400"/>
              <a:ext cx="259560" cy="2908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>
              <a:stCxn id="141" idx="6"/>
            </p:cNvCxnSpPr>
            <p:nvPr/>
          </p:nvCxnSpPr>
          <p:spPr>
            <a:xfrm flipV="1">
              <a:off x="4511160" y="5028840"/>
              <a:ext cx="289440" cy="2671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Data Parallelism</a:t>
            </a:r>
            <a:endParaRPr b="0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roblems naturally “fall apart” into many nearly identical independent piece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sufficiently fine-grained that none dominates T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easily aggregated to balance computation with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problems are “made to order” for parallel computation, since decomposition is triv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828800" y="6095880"/>
            <a:ext cx="5486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ten so easy it’s known as “embarrassing parallelism”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123720" y="4648320"/>
            <a:ext cx="2406960" cy="1218600"/>
            <a:chOff x="3123720" y="4648320"/>
            <a:chExt cx="2406960" cy="1218600"/>
          </a:xfrm>
        </p:grpSpPr>
        <p:sp>
          <p:nvSpPr>
            <p:cNvPr id="196" name=""/>
            <p:cNvSpPr/>
            <p:nvPr/>
          </p:nvSpPr>
          <p:spPr>
            <a:xfrm>
              <a:off x="4538520" y="464832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6" idx="6"/>
            </p:cNvCxnSpPr>
            <p:nvPr/>
          </p:nvCxnSpPr>
          <p:spPr>
            <a:xfrm>
              <a:off x="4779360" y="4762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4538520" y="497808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199" name=""/>
            <p:cNvCxnSpPr>
              <a:stCxn id="198" idx="6"/>
            </p:cNvCxnSpPr>
            <p:nvPr/>
          </p:nvCxnSpPr>
          <p:spPr>
            <a:xfrm>
              <a:off x="4779360" y="509220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538520" y="563868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201" name=""/>
            <p:cNvCxnSpPr>
              <a:stCxn id="200" idx="6"/>
            </p:cNvCxnSpPr>
            <p:nvPr/>
          </p:nvCxnSpPr>
          <p:spPr>
            <a:xfrm>
              <a:off x="4779360" y="575244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>
              <a:off x="4538520" y="5308200"/>
              <a:ext cx="228600" cy="228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203" name=""/>
            <p:cNvCxnSpPr>
              <a:stCxn id="202" idx="6"/>
            </p:cNvCxnSpPr>
            <p:nvPr/>
          </p:nvCxnSpPr>
          <p:spPr>
            <a:xfrm>
              <a:off x="4779360" y="542232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/>
            <p:nvPr/>
          </p:nvCxnSpPr>
          <p:spPr>
            <a:xfrm>
              <a:off x="4166640" y="47602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/>
            <p:nvPr/>
          </p:nvCxnSpPr>
          <p:spPr>
            <a:xfrm>
              <a:off x="4166640" y="509040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/>
            <p:nvPr/>
          </p:nvCxnSpPr>
          <p:spPr>
            <a:xfrm>
              <a:off x="4166640" y="575100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/>
            <p:nvPr/>
          </p:nvCxnSpPr>
          <p:spPr>
            <a:xfrm>
              <a:off x="4166640" y="54208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/>
            <p:nvPr/>
          </p:nvCxnSpPr>
          <p:spPr>
            <a:xfrm>
              <a:off x="4166640" y="4755600"/>
              <a:ext cx="1080" cy="99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209" name=""/>
            <p:cNvCxnSpPr/>
            <p:nvPr/>
          </p:nvCxnSpPr>
          <p:spPr>
            <a:xfrm>
              <a:off x="5157360" y="4771440"/>
              <a:ext cx="1080" cy="99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cxnSp>
          <p:nvCxnSpPr>
            <p:cNvPr id="210" name=""/>
            <p:cNvCxnSpPr/>
            <p:nvPr/>
          </p:nvCxnSpPr>
          <p:spPr>
            <a:xfrm>
              <a:off x="5162040" y="5257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/>
            <p:nvPr/>
          </p:nvCxnSpPr>
          <p:spPr>
            <a:xfrm>
              <a:off x="3123720" y="5257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3481200" y="514944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86120" y="5149440"/>
              <a:ext cx="0" cy="228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81200" y="5378040"/>
              <a:ext cx="3049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2120" y="518760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73360" y="518760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52560" y="5187600"/>
              <a:ext cx="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cxnSp>
          <p:nvCxnSpPr>
            <p:cNvPr id="218" name=""/>
            <p:cNvCxnSpPr/>
            <p:nvPr/>
          </p:nvCxnSpPr>
          <p:spPr>
            <a:xfrm>
              <a:off x="3798360" y="5257080"/>
              <a:ext cx="369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07:29:42Z</dcterms:created>
  <dc:creator>Michael J. Mahon</dc:creator>
  <dc:description/>
  <dc:language>en-US</dc:language>
  <cp:lastModifiedBy>Michael J. Mahon</cp:lastModifiedBy>
  <cp:lastPrinted>2007-06-24T23:20:53Z</cp:lastPrinted>
  <dcterms:modified xsi:type="dcterms:W3CDTF">2008-07-20T18:43:35Z</dcterms:modified>
  <cp:revision>40</cp:revision>
  <dc:subject/>
  <dc:title>NadaNet Networking for Apple II’s</dc:title>
</cp:coreProperties>
</file>